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13.jpeg" ContentType="image/jpeg"/>
  <Override PartName="/ppt/media/image29.jpeg" ContentType="image/jpeg"/>
  <Override PartName="/ppt/media/image5.png" ContentType="image/png"/>
  <Override PartName="/ppt/media/image27.jpeg" ContentType="image/jpeg"/>
  <Override PartName="/ppt/media/image52.png" ContentType="image/png"/>
  <Override PartName="/ppt/media/image31.jpeg" ContentType="image/jpeg"/>
  <Override PartName="/ppt/media/image40.wmf" ContentType="image/x-wmf"/>
  <Override PartName="/ppt/media/image7.jpeg" ContentType="image/jpeg"/>
  <Override PartName="/ppt/media/image28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png" ContentType="image/png"/>
  <Override PartName="/ppt/media/image33.jpeg" ContentType="image/jpeg"/>
  <Override PartName="/ppt/media/image30.wmf" ContentType="image/x-wmf"/>
  <Override PartName="/ppt/media/image46.jpeg" ContentType="image/jpeg"/>
  <Override PartName="/ppt/media/image48.png" ContentType="image/png"/>
  <Override PartName="/ppt/media/image32.jpeg" ContentType="image/jpeg"/>
  <Override PartName="/ppt/media/image49.wmf" ContentType="image/x-wmf"/>
  <Override PartName="/ppt/media/image51.png" ContentType="image/png"/>
  <Override PartName="/ppt/media/image50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36.png" ContentType="image/png"/>
  <Override PartName="/ppt/media/image10.png" ContentType="image/pn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notesMasterIdLst>
    <p:notesMasterId r:id="rId43"/>
  </p:notes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  <p:sldId id="268" r:id="rId56"/>
    <p:sldId id="269" r:id="rId57"/>
    <p:sldId id="270" r:id="rId58"/>
    <p:sldId id="271" r:id="rId59"/>
    <p:sldId id="272" r:id="rId60"/>
    <p:sldId id="27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notesMaster" Target="notesMasters/notesMaster1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slide" Target="slides/slide13.xml"/><Relationship Id="rId57" Type="http://schemas.openxmlformats.org/officeDocument/2006/relationships/slide" Target="slides/slide14.xml"/><Relationship Id="rId58" Type="http://schemas.openxmlformats.org/officeDocument/2006/relationships/slide" Target="slides/slide15.xml"/><Relationship Id="rId59" Type="http://schemas.openxmlformats.org/officeDocument/2006/relationships/slide" Target="slides/slide16.xml"/><Relationship Id="rId60" Type="http://schemas.openxmlformats.org/officeDocument/2006/relationships/slide" Target="slides/slide17.xml"/><Relationship Id="rId61" Type="http://schemas.openxmlformats.org/officeDocument/2006/relationships/slide" Target="slides/slide1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dt" idx="1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ftr" idx="1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 type="sldNum" idx="1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1DA4-6643-4443-886E-CB132AB975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A7CE-4221-4AC6-9E48-75736F3F0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% of all farmers cultivate maize on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% maize, groundn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% maize, paddy,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%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4781-6DD2-458C-AC56-CAEAD3146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847D-7F6B-4514-986B-4608B2F8B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A66A-B60A-4982-8FE3-620A99B3B5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898200" y="4358880"/>
            <a:ext cx="501156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2B0C-40EE-438C-A19F-F30C9738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8237-8752-4259-A15E-550805D6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76EC05-9E40-4BEB-A39A-BC66422E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498989-106C-4BBB-9562-47E62D4E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367B76-6324-4B94-80DD-61912B51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BB2CD2-D767-4B36-B997-836B6389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52FF6F-07AA-4DE8-8D2D-6A6954E6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ACDC33-C307-446C-89EE-A2869545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DD1F1D-3D19-4DE5-8BA0-E903A6CA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DBC082-B3A6-4157-95AB-BB3D5E61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032BBA-1228-44B8-A92E-BF42CCAD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7E4936-AF78-4247-9EC8-5C8B1E42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597A-D9D1-40DE-B6CC-7D4B918B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2E1A3C-8385-4279-B8EF-FC7A4A9A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F89150-E214-4851-A1A3-EAFB81C7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694FE1-749B-468B-9A4A-A8B81149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DA584D-F9AD-4329-975E-938CEEBF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BB1A0F-A0C4-4D3A-8F13-F57EB0CA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E68563-EAB9-4928-9B43-5BD71F26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63BFB5-5D6F-43AC-9AC0-A9F8FD59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894A4F-AE9F-4C76-9F33-4ED0034E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FF24A1-332F-491C-9005-7E3EEF43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9B37C9-69A6-4F23-B8A2-7BFA0C59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557-DD93-4DA9-B16F-D852A3F2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2587B3-75C2-4878-9555-56581ED9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3F62BE-6872-4CE3-A01C-291A2B25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78E98B-DE44-4FAA-B693-11565C03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437BE2-BCEF-4A78-A75F-6E9BCE8D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A42CB6-E914-4289-A46B-40EAB98C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B61FDF-742F-4E18-854B-E7B21107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0723FA-37F3-46A4-9BED-7E5F6A57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86C1A2-6B79-417C-8001-5D6C6D44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29CC19-6453-4429-AF34-CB60627A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A27ED7-49C6-4E44-8CEB-DBBC280D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38DE-20C5-4C45-84C4-20B1D2FB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2D3586-8CB9-48C0-B3A6-80EA17E7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8B8F69-3912-4337-97A0-7B3968EF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DDDAB2-18E0-43E5-9F0C-1FB85ECD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E738E2-2C56-418A-A0DB-E09A60EF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F32C45-D441-418A-B9C3-C71B4829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B54759-A283-4A9C-8286-01A99E2E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93C92B-6F92-49D7-ACE5-C4EC81A5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947C18-9B0E-4DE9-B4FC-2B14CC2D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E8C572-B6B4-475B-958F-BF214A6E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90DA29-85A3-43B5-A8C1-D0B83529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EC8B-4E7B-456E-AB16-32406D36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94AB2C-DF4F-4C64-A757-E265A220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91BA43-27D7-4045-818D-FCF2FB1F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045145-46FF-41CC-86A4-B021E253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7CBB2D-C17B-44F2-93B4-B49C5FF5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ED4937-FF2D-4D28-A2D9-CEC9CCD3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1CCC76-2DE6-409C-B95F-8DDCFAB9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D181EE-C9C9-4011-8668-6F8B9FD4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800549-0BA2-4F36-A679-D8AB2C70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EFB0C0-2627-4B71-B863-124A2F2F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83D696-8A12-4150-9A2B-9740E3D4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C2BA-D0C0-44FF-9453-7384A00F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1B8E75-34B2-446A-95E2-DAAC65F9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D2D990-779E-4FE6-AC48-F9411747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E34574-499D-4472-B10B-4BB87182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0E4D68-F5CB-4E29-AC24-AF964BA3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3DEFBD-DA73-4D73-8E89-A7F2F875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EB45CA-2348-41D3-971D-E57960A0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982C08-3261-4CB1-82FD-7C0F7C5E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DAC9E3-7715-474A-AB32-041A8073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08658A-E6D8-449F-AEB3-79571B9E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7BC9D8-B678-4168-A0D5-2B002654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F5DE-AD6F-487E-92E5-B7D43D98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70D83F-C937-42B5-9CF0-BC4B33FF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320489-1408-4F25-8951-18D088C1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21AB4F-BB5B-4E55-BA9D-2FA0EA2C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9031576-32D4-44BA-AFC5-D7F3AE6D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CD28C4-22B5-4D22-A500-6DD844A6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A7CEA5-AF74-4A9B-AB76-7B5A6E9D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ACA528-2C1F-436B-BF72-9BA58FD7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CDC273-1B20-4727-A5A6-4FEFCFB5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D6A610-0A56-457F-9C52-9670B232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C3899A-1162-492E-B552-55CDE81A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BEBE-9928-4916-B352-26EEE764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F6354A-A45C-4C01-B24E-854CA5EC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DEB17E-4DB1-4394-A94D-7E78B014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25B7F6-491A-4EB0-B5A5-4919A944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4B452A-BF1F-4F52-BAF3-85C106EC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578904-2A60-4B98-9FA7-6A8123F7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ACBB6C-D617-4C84-BE63-B987874F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BB5CFC-5755-484D-BFD8-03BF9ECD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CE969C9-E630-491A-BC50-4EFE41CB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8D379C-51DA-430E-BD75-3B91692C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7FF1FA-AF71-4506-99DB-3541E94F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3662-5130-40F2-9E33-7D3D2BD6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B0D423-0A6D-49AF-A0E8-3335A3D8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9EEB67A-DAFD-4ED2-A160-32A33CE0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B78B600-BC46-4325-BA70-DF36CFCC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DDEA58A-390D-46B2-A2AA-BD19E242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CBAA1EC-0ABA-4AEF-AC8F-82DEF141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D0B4D4F-FA7A-42AB-B6E8-AE4E879A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F30FF64-E6F7-49EA-ACBE-C55BEBCA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B003363-05FE-4E83-A512-FD86CEF8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EDB79BC-2A01-45F1-AFE6-C3DB22AF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CB1017-2648-43B9-89BD-F1AD1F8B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0378-D315-403C-8204-7813AF07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7EC5520-ED42-4EA9-9EDD-9292D560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3229F49-FDF4-4610-ADE0-7E596F77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CA1929-DB52-4CCF-8245-1EDAD607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6DE21D8-0A48-4C96-B218-9FB4B539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0C2710-F4B3-4A18-AA4A-18400C9C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D25D08-7F45-44F0-B9BD-2830B7AE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179C0FA-5E09-49FC-ADAA-0651D43E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60845CE-653E-46D4-AA28-587DD863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483DC96-BC02-4F87-8704-1608558A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500AE8C-0757-4D08-B137-EC67A0E5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8925-97BA-49CB-B104-276F2C09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9E0F-8F3D-416E-883E-A8D4185E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E036A3D-EC98-4253-B041-5352F270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5220866-CA7A-43E1-8D70-D02AADFA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474FEFF-B7BD-4D76-9B58-14F7E0AE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6CF9DAA-4DC4-471A-A9AD-211F11F7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9121C9B-6B5A-4132-9155-4D899640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812F30A-5983-4789-B032-12D9E9D0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28EC1CB-D7B9-413B-A776-98CDAADC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6F4142C-4E87-4F2C-BF43-504D9F19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91FDF84-C9DB-495B-9D65-059B4C4D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95C1A17-6800-4D96-96C5-AFDFB72B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A3AC-B976-4800-A0CA-8BAD7B13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E5B1F77-E654-4240-B702-AC93E4CA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289A96D-44F8-441F-9C27-346B06A1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208677F-3D7D-4F8F-82EF-02A2831A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64920DB-A655-4208-815D-A5BDDA90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27FA3F9-A7B1-4BF2-94F2-09403C0D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D8BD642-6431-439F-A1EB-CB4BA21E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BF7A48C-8261-46BB-AB01-873ABD2F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3167771-68B3-4048-BEC7-BCD18466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19ED41D-FA07-407A-B3E0-CB59D078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6D0B7BC-56C9-4971-AC9B-9892CF4E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3BDC-4592-49EA-AADB-5B0A6C98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D3EED59-AC9C-4A70-A5FC-28D657A7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3212C85-CCCB-45F1-8076-EA9DD161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A5F8AA0-53B7-4381-94A0-85B20566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9B73290-8BCE-472C-A05B-58953D22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63A3EC5-AF8D-4C0A-8811-07534436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5B79378-0240-4203-BB8C-765CFC7F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BB8927D-2BE1-4236-8584-2E5B8A57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AA02A8F-ACF8-43C6-932D-C4DE5AB7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15A49B1-C1DE-41AE-8582-39098B28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6A1A-161B-4066-B23A-3141CCB2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8D76-2D92-42F6-BF73-795A215D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F4D3A-7725-44D1-9174-7311CC2B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7797D-2C70-4A64-9F83-F98D818E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056974E-7480-4601-87B1-429D278C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8CB1092-8952-4A7C-9F26-51098FFA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70E7335-6192-47C5-AC9F-1B2D4AFA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8B770B1-9247-4E94-8B78-1EBF2D16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98A86D1-D324-4A45-94AF-6A28F143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B3FA5-DBAF-4EA5-997B-3E0C7530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41B5C71-5401-4821-BF91-5CC51B77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396A167-625A-4B92-A418-D1325DC8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40A33B6-9C05-4EA8-9434-0AAFC241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EE136A8-F911-4216-9F18-A18A320A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122C36F-F577-4C05-AD06-2AAEFAA9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CDFBA9B-3B99-472C-9007-BD0907B4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1946473-019F-428C-A1E7-C33075D4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F081125-94DC-4034-9043-C7B06554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9E7B799-9657-4939-8EFE-8F0B7F3A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EF2F869-5BB3-4CFE-B267-8C5E426E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86548-97D1-4411-B760-97828BC1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B9915CD-51E1-4394-AB74-EF4B017D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0BD7316-CD3B-4785-8951-215F00F6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759EB53-ADD7-4454-BC4F-C630D4BD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3B7D4C9-8AF5-4971-BB31-9521E811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332E8D4-BA0E-460A-91FB-CB405DE1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DC1FE5C-D10D-4809-8F9F-4C4B9BED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21B404E-3677-4CAE-A687-D11618AC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BBCB1D6-D96B-4435-AE31-5E81780C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812B383-BBCF-4272-BE11-7295A582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2424AF3-3F08-4B22-B910-0FB723D4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3152F-9444-44AC-9E99-D5928C61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0C9B7A3-3DD4-4244-9EC9-D091D910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B8A819F-EF89-4377-A748-289A0DE0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E0349C0-DFE2-47D4-AF46-39F11097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6A8D929-2103-495B-9E58-9B87C6A7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0B6E7E0-9504-4B41-9121-CAEDBCDE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807815E-4695-490C-9566-53A89452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FE929FC-7626-41EB-AB0D-7A133E04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368DE38-7361-4419-9D06-8AD92C99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5066A27-997F-4E74-BC1F-956F0CDA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9041EB9-8FA0-4E05-BECF-D03F0187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E6C7-AFBE-4397-86E9-8AE1B3C4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CDCB4-C959-47AA-A041-D52164DE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E2FDB31-58D7-4105-A8CA-1AD95EE6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042A4D2-634D-4E01-A13A-2A397720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EBBD924-D19B-4B1D-A1BB-7A2FB965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12B9C89-F4B0-4D39-86B3-38261004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022BF70-0B73-4A78-8A26-A642E2AC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9AF8D57-8F2E-4361-B5EE-5D15ED74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E01DBB6-2B2A-41F8-A0A2-ABC874BD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B4FE97C-790D-4065-B47C-9570A6C3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0F7B0C0-6C4B-4D3C-93DC-079346EA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5D9CD3A-ED89-404A-839F-2D526EC9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7792B-1DA9-495F-8CE2-49198112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0EDEB85-40A7-4764-A519-9E1C890A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17CBFDA-8212-4442-9592-D2070827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9341351-186B-4A01-9A02-1A412BCA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AE36D-8DD8-4851-9DD5-70CA03EE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2F4E4-2207-4315-8F4C-02477220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B1FBF1-F64F-4984-BED1-2A90962F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E8796E-2C83-4FB8-ACFC-3B915527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9E10EF-DC2A-4F5B-BD75-832C08BF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0AE9A-D170-45BA-881A-37C680EE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05BE0E-4D1F-41DC-B59E-82DE5BBC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DD9EA8-3B64-48AC-8123-0DBF6BAA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A6D863-9B06-4798-ADA6-ACC7D77F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8567B2-DC82-40AE-9C9B-34865CB6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EDEE90-8971-4337-B880-A78F8217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C73E50-5A0C-4A1A-8722-532BEB7A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8F9FBF-FA57-4AB8-9601-D271A9D6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F8EF45-317A-4736-BF1F-EF2F4D37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CEBADA-D206-40E3-8A1D-F83A0F72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DD9663-5B5D-4181-B988-07380CBF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F429D-5AB0-4B4F-99DB-045F2A56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0DAA90-FF0C-4B6A-B5EF-E58B322A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FA0DE6-52FC-467A-8FEB-6518E4A5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FB176E-0386-4353-88C2-F661636A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D8DA3E-397F-4868-B839-88042A58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ECF9CB-A3CE-4F3E-8D4B-5EB36647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53D559-2763-400F-BE88-533F3B49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5BFFD0-6A8A-4CA4-93C1-DEB74656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E0DDF7-A439-4F3F-B0F2-C1DB4D8D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F84059-2903-4676-9998-D9A7E10C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C272B6-00F1-43DF-AFD9-CAC25232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2D04D-844A-43B7-AB39-2BBFFAE6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58A628-D3BD-4D45-92FC-C10056D8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A7D6E6-F8CA-44F9-81A8-135A40A6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7CFA81-EEF0-4DE3-B2A3-C74D8A7D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D314FE-89BE-4FB3-B1A0-8E41B1E0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F47DE8-A883-48E5-9034-83B4602B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96EE60-216D-4540-9F65-41EC4A8E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0254F5-4AD9-4EBF-BDB8-3135ECD2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825509-10F4-494A-9A4D-80FC1E29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3F76E1-94CC-47C8-8661-E4920825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F914BB-45A8-4F25-B032-E538C1F2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28345-15A2-446B-AE1E-466AE6FA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589C0E-4584-441F-B7A6-5347036B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76819D-741F-456F-8A7A-AF7A4E4C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8710DF-79FC-40E7-945F-82FB0C45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30E0CF-1C92-4BD2-8095-566F59C4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2CBE11-C697-4AAD-97A1-8AB8C9F8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1AB256-B23D-495B-A919-EF25D908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DEDA93-8570-47B0-BEB3-A6B857E8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F4CD44-8D9F-4AB0-9A00-4C010D4C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40A7C9-C4B6-45E3-AFCF-EB8E1116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267D53-E16B-4845-B08E-E502EC51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59E09-744C-4261-B287-E481FDC2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38B38F-53CC-4FFC-91DB-D30F24FD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757F1C-10E8-4219-A58F-D82C0E5E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A0D15E-61FC-46C9-B7AD-F5A2FC9F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4FCA01-D3AF-41F5-9702-F7D6A2FA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A0581D-542D-47E1-A021-DFEE4EA9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D009D7-DFDC-4406-8584-D49BFF51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27C109-76C2-48C4-8BFA-11D1C818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5EC115-94C4-468E-926E-B5DBF28C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6D4CE0-E830-478F-BA9B-F0005330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22F1DA-D3F3-47CF-BD94-498728E3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7FA1D-58A7-4899-8050-AF58282C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728EB9-7D7A-4371-B5D8-1E40761E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1A6A95-2172-4AD6-BBA4-1061CC53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891B5E-8228-476C-BF99-1A220042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EAB884-E4AC-46A3-998B-363E08B0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C5D810-2904-4176-A0C2-39FBDF58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436327-5C54-42A7-93D6-EF91995B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600450-BA33-4EC8-8BD1-E5AECBE3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EC1E4F-75AB-4AC6-90A7-35367848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09DDBF-0B82-4A40-8205-EB9063B5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93846C-C367-480D-97CC-477FFDB9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6512-DD7F-4F3B-829F-00253FC7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4C990-83E0-40A7-9A56-61EF38C2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C65BA4-6399-4CBD-9ABC-733A1DD2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6F3FD7-F593-4ACE-8F14-1A76F773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A3FCC3-55E0-4C18-A687-F4D806E6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54BE75-A09A-4DB6-AAB2-DC053FF7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BF8436-3D2E-4006-A52A-82BB13B5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95B043-2A1D-4635-8FC2-E23B5E67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0E9509-F36B-4D05-BE14-3B616B5D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06A50F-E206-43D6-A1B2-477C9594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4B4A84-1EA3-438D-9823-1A3A9CFC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2DE5F0-9AA9-4A9B-A4D2-08A64641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A2508-8CD5-494A-AF01-7B290F13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1A845B-87C7-4805-A2CA-29E78E54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D1E8AD-8630-4424-8ECE-A9597847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CF7699-81DB-439C-AD7E-296FAEF8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F39AC7-8A31-46A2-9B11-262C1759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55C285-C36D-47C8-8053-A70D1131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DF384C-E12B-499F-889D-112D10D1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71DB15-1F28-44ED-8F48-1751ED8A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383579-6953-42F4-9209-B6B90902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8EB794-0EC6-4B2D-971E-7B0CEB19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FBB009-5AD8-4BB4-947A-2381D1C8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4E4FB-EE66-4DEB-8C07-8E0B25D9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C7AB6F-ED59-47EF-8CF1-825E0026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018093-E518-490D-8A2F-740ABEFC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CA6F34-D105-4A0E-95CD-3E9A332B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CC0436-B4C1-44A8-BB93-0D2BA65C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DB4F56-9634-438A-9343-6B3E2E66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8503FE-4102-43E1-A961-E323E29D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B2652E-5511-4C3C-9B51-10F6BA7A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D356F1-4A41-47A0-A974-A50F7245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74C5B7E-E64D-41AB-B29A-FA359DB6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AB72C8-CA98-467C-916A-B7AE1D16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A64DF-A8E3-4581-BAA4-3DB3B944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E394BD-623A-430A-9A49-15D75E0D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4F06BCE-AC48-440A-81C0-CB8154AE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096DBC4-3BB4-4715-8275-95265087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8E7D96E-34A2-4D6B-BCBF-C5642EEF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47D2D4-929F-4256-B167-A51B82B3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C3C8542-8660-47C3-8607-7AE599F6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4E5CBF-8DE3-4BF1-8817-2F39847F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FA13358-7D3B-4806-9356-321F94E6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44EFD9-38E3-4D3F-B86B-CF3FEE5E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364BFC-E95B-4056-8A9D-91A41134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29AB3-0491-4E8A-BB00-8E7A6BD6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F635EB-9C9E-4234-A522-09534546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6C29B28-F4D5-4633-A781-4038A06B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065CC41-09E0-4877-9A22-E85E7FB8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3B942AB-A04D-4065-B86F-78CA8FE0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D7AD1B-7EBC-45DF-8B8C-A4002DB4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953B33-2150-4BF3-8D01-2916A146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EC6B8AB-2C28-4F81-A118-8EC3A27D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AC7A63-E844-465D-A9DB-86F7A345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B131C8-97E1-4D02-B353-0EE83560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37401A-0400-4434-BBEC-B3A87696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CAF4E-C52B-43E5-8BAA-37BBF4B7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97FFC3-2B91-4D03-A9D9-D72A8DF9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DB14E0A-FB78-43FB-B1FA-81853768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B51B83-859A-4487-9909-848E2847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E49DE89-8853-4E4E-B15E-64EAEB00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78EC10-56A3-4015-9949-C4DC5BBA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AF0DB8-59CB-4C7B-AB03-D1BBBEC1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7B9E448-1457-414B-B3EF-2A0F5369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35B0939-9964-49EB-B90D-6B3C64A7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84A6C4E-FFCD-40FD-A0A0-C362A794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2205D81-27EA-4692-9783-DE8CD536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223A4-B2E1-401E-91A8-CEC2701D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78A3B21-68AF-4886-8D34-81B1FCB3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F4776DB-D177-44AC-8AFA-CF6C15FC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374F8DD-F708-4A80-8325-35025EE6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65A908-4F50-41D8-BC1E-12F5B988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17F564C-CFB1-4CE5-84D7-39B7DADB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C0F0D93-3D4A-4685-9BE6-EF85BB8A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275E13-4233-4AB5-9095-1E2F8B8B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B958D58-4591-4019-9DB1-0DE818DE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4883255-6AEA-4F8D-9AD7-204F19DB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560CD04-37E4-4A67-82B4-76E47FA3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19FA2-5DA8-4C1A-90E5-3B4CFA96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AF2D3A-AE63-4EEB-BEDF-57A80E0D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77FBE52-9F5C-4BB8-B684-072652FD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EC47320-1248-4D41-B4C6-C4A699FF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A96A158-F7DD-4158-A7EC-93AF1FB2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86FDDA-DA82-40F1-AF9A-DC2EC666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7703380-9C92-4DA9-97B4-FCBC1302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4397FD9-47F2-45D7-BB46-2273B7C5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7039A6E-159A-4467-A05E-85FC6A18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870B2B-AED1-494F-8E7B-7EDD78B4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51F887E-C599-41C6-A203-D1DFFC58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9C34A-F8C3-480E-9EFE-FE0015E7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D13F64-87D0-43F2-83DE-9F914A44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383905C-6793-4A71-90FF-26D2B19B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397D75F-0D65-4B15-B6DB-D291F0D6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D666A8C-5038-4C85-BD0F-E6678962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2D65CBE-FDF9-4635-B8B4-1FF1C206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1D593BD-AC03-4842-A71D-743421F3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41F0B79-05B2-42DE-8F2B-9A984708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89C5352-E24A-4FD5-A7E3-ADB2E0B9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1F6EE33-81E9-416B-8576-FA72CF87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E293408-40B7-4F82-B43E-EA0AB799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145B8-8ED0-4DEB-A1FC-DEC9EA91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CE90D10-1007-4445-80DC-606FF6D9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38FB29A-CBE2-41F8-ADA6-689236E6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235C3B9-9FB7-4FC0-B8CB-F83B7AC1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88C9-1ABF-4007-9B45-8E453B5F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B988D-2548-4F86-A42A-A8938687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A25EA-49D3-4DBC-9ADC-F6C7D042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05054-1802-4AA8-AE47-115268E4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8D790-A903-4095-B4CD-CD357A41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BAD76-B567-475E-81B8-319FC16B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886BC-FD12-4549-8045-E2AD77E5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EB036-C706-4835-A5C4-EFBC3BB9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937CB-4087-400A-B23E-AA21E640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0901C-C194-4E41-92F8-E0BB452A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C06E0-E024-4FFB-8A2F-CD94585F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E58C-BD2C-4FD3-9BE9-68FD0A18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EE942-200B-4E53-91A5-6F58B6D4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C8809D-DA82-48C4-9972-730707D35EB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054C58-4CA9-4949-8405-F5D874DBE1E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6219A-CC7F-49CB-8461-0BA021BB2FA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342023-5558-4FCC-BC7B-887ED9A7346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887A37-F7E9-4B28-929C-448BC277FD5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E504E8-BDDB-4D78-9350-7E387C4AEE2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4BDD45-04C4-465C-9786-CD5EBD83137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F9D442-F1A1-404D-9AF2-EAC4D48147D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EAC63A-7B60-4509-8BF3-E04BDF585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17A-EFD0-4E67-9AA2-79795C1D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FD1A2C-D8B3-40F1-8890-842F953B28B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4D71A9-D442-42C0-89BA-BC5C2815BFD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1F1CBB-3C1D-4640-A987-C67674A7E5B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4F574F-4C53-4379-BAB2-3C6CFD72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2ED84A-18DE-4D70-B60A-5CA95D95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588BEA-A529-453E-9F85-1B784420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A2AEAB-DFB3-490B-BE50-8D8BA174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9BAC77-74BF-4C7C-AFCE-3BDAB70E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058EE0-573B-4BC2-9626-687178F3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3B0DF6-DBDD-4FC1-A549-C42178A0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ADFC-9BE8-4EC3-83BE-B253CBB5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FBBE02-781A-49EC-A529-AD180D5B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68C0ED-9616-4B7B-9A00-9451F425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CE3D44-77B9-4E29-BD01-CD2056BA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F9282B-616F-46E0-89BD-E618A41B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C740A5-3E87-4747-82C2-00B188C0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C7B6C5-0C2F-4FED-AA70-E9BC8EC7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79DA49-0E09-41D8-A386-8BE1BDD8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C9005F-717D-4BDD-BA85-9CF307A1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5F8D15-240C-453D-92DA-A186BCBB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0C6A2B-49D8-4710-A1E7-17502F26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B55-F28B-43F0-B6B9-C7D86114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811D36-D87F-41FA-8072-4996AE7D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69E0F4-9EED-4815-B3C0-B8D265DD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13DEED-CC33-4E05-A088-B0A1C767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61F37B-5B12-4576-ACAC-D30B1541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09225C-2F28-48FA-832C-4AA3204C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AFB9E6-116B-4B81-9927-F7403845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347C37-2A12-4C28-83AD-642EFAC9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B459BB-7DAE-4544-B412-1704B1AE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1CE123-1640-41F1-AD50-3C212A97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6103B6-E99B-47AA-8E3C-72AC20CE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6499-56FF-4ED5-9D0D-7E842163D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159C-6C6D-4848-B0FF-24B87C8F95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9E56-693D-4C48-8BEF-BCCD2BD50B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B048-84D7-41ED-B57E-40E32084A0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C711-D9D1-4779-8DF0-D9D3BAA945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F635-9AA8-4213-A463-71BEE0FC9C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465C-98D3-4A71-A0D1-BE796D36D6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8093-10F5-45AB-A11C-D5269EA589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5D73-E825-4ECF-B23F-84F81DBD6C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E30F-B129-4FCF-9DEE-26E1710002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5581-6B6B-4219-A281-9D04EAF745C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48B3-7D8F-41B6-9A9D-2C2508B11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2D57-252D-45FE-AE7D-57AC1CBBD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5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6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ftr" idx="5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0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D605-C858-4E8D-98AF-C59FD10E7F5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BEF7-4FE1-437F-A630-7EBC0E71D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4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84AC-15CB-4F75-B1BD-9885BE14727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7AA9-37FD-4635-AA37-5067EDFBA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8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424B-CE8D-4707-AD6E-E21088461F1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6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6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0113-1544-46F7-B9EC-81FF03C03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3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03CB-0427-4A0C-BC33-AA7EE71D10B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ftr" idx="6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 type="sldNum" idx="7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1F90-7DFA-4ECD-B89C-6EC76ECC8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7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BE42-00CC-4F39-BACA-D66DB743289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 type="ftr" idx="72"/>
          </p:nvPr>
        </p:nvSpPr>
        <p:spPr>
          <a:xfrm>
            <a:off x="6019560" y="632412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5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145B-1264-4DB3-963B-4DDFE2BE33F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 type="ftr" idx="7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 type="sldNum" idx="7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93EB-FF8E-435F-9CE1-115015031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87A9-ACAD-4F06-9A82-63462F68E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9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8296-8A7A-4FA5-8CAA-DA53239857A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 type="ftr" idx="7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 type="sldNum" idx="7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1D2D-F2C2-48EA-A43E-456FC9949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4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3F44-4BDC-4FCC-A6FD-871E27C7B3A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 type="ftr" idx="8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 type="sldNum" idx="8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BE96-7E93-4C18-A018-0FD092D0F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FF1C-8B07-4D02-8647-4B6DA6D3C33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 type="ftr" idx="8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 type="sldNum" idx="8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5FD1-262F-44F4-9FF2-C810EE520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32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AE61-CD80-490B-B20D-8464F015EEA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8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C7D3-9DD9-481F-B4E4-B1FCE887D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37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2A84-3BBB-4472-BD55-591EAF57796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8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9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9DE6-CB86-4059-B537-56C9DBDB1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41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4CA9-DCDB-48AF-BD59-E3ADC41C5AA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92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93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8C56-16DC-4254-AA5D-0D62A99BF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4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TextBox 7"/>
          <p:cNvSpPr/>
          <p:nvPr/>
        </p:nvSpPr>
        <p:spPr>
          <a:xfrm>
            <a:off x="454680" y="1687680"/>
            <a:ext cx="146088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ound Same Side Corner Rectangle 8"/>
          <p:cNvSpPr/>
          <p:nvPr/>
        </p:nvSpPr>
        <p:spPr>
          <a:xfrm>
            <a:off x="3726000" y="847800"/>
            <a:ext cx="2057400" cy="447480"/>
          </a:xfrm>
          <a:prstGeom prst="pie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WHAT WE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6A0F-D293-419E-8844-36720B2886E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 type="ftr" idx="9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 type="sldNum" idx="9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9261-8743-44B2-B200-AF8A47ED4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0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F5B1-5ECE-466D-A914-B2E42940735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 type="ftr" idx="9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 type="sldNum" idx="9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314F-1F96-43C0-9624-00A2D463B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4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7CE7-7D46-47DD-9E7E-C35A98AA6AB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 type="ftr" idx="10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 type="sldNum" idx="10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0971-FBC7-4910-AC3B-DBBBA42A2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8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5EE0-ED57-4FE1-8E01-1F42612563B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 type="ftr" idx="10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 type="sldNum" idx="10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3F5E-158C-4CDC-B1CB-A67685AC8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877B-DFB4-4AB5-8F07-81CBD8D8FF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63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9271-FBCB-499F-9908-7F9B914E7C9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ftr" idx="10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 type="sldNum" idx="10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4B28-A65E-4F11-96FB-D9D8565D0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67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0CD8-B7DF-4D67-9C67-C43754158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D1EA-5DC5-4314-9FAB-1D7023BD5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3711-9B46-40A1-A884-268A76999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4F1D-372A-498C-95D5-CBC7FBEFC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AE29-1048-47CA-839C-42121AE567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E21C-79C2-4988-A1BF-91EE05D0D4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jpeg"/><Relationship Id="rId15" Type="http://schemas.openxmlformats.org/officeDocument/2006/relationships/image" Target="../media/image26.png"/><Relationship Id="rId16" Type="http://schemas.openxmlformats.org/officeDocument/2006/relationships/image" Target="../media/image27.jpeg"/><Relationship Id="rId17" Type="http://schemas.openxmlformats.org/officeDocument/2006/relationships/image" Target="../media/image28.jpeg"/><Relationship Id="rId18" Type="http://schemas.openxmlformats.org/officeDocument/2006/relationships/image" Target="../media/image29.jpeg"/><Relationship Id="rId19" Type="http://schemas.openxmlformats.org/officeDocument/2006/relationships/image" Target="../media/image30.wmf"/><Relationship Id="rId20" Type="http://schemas.openxmlformats.org/officeDocument/2006/relationships/image" Target="../media/image31.jpeg"/><Relationship Id="rId21" Type="http://schemas.openxmlformats.org/officeDocument/2006/relationships/image" Target="../media/image32.jpeg"/><Relationship Id="rId22" Type="http://schemas.openxmlformats.org/officeDocument/2006/relationships/image" Target="../media/image33.jpeg"/><Relationship Id="rId23" Type="http://schemas.openxmlformats.org/officeDocument/2006/relationships/image" Target="../media/image34.png"/><Relationship Id="rId24" Type="http://schemas.openxmlformats.org/officeDocument/2006/relationships/image" Target="../media/image35.jpeg"/><Relationship Id="rId25" Type="http://schemas.openxmlformats.org/officeDocument/2006/relationships/image" Target="../media/image36.png"/><Relationship Id="rId26" Type="http://schemas.openxmlformats.org/officeDocument/2006/relationships/slideLayout" Target="../slideLayouts/slideLayout241.xml"/><Relationship Id="rId2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wmf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wmf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wmf"/><Relationship Id="rId1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5" name="Subtitle 2" descr=""/>
          <p:cNvPicPr/>
          <p:nvPr/>
        </p:nvPicPr>
        <p:blipFill>
          <a:blip r:embed="rId1"/>
          <a:stretch/>
        </p:blipFill>
        <p:spPr>
          <a:xfrm>
            <a:off x="1139760" y="3389400"/>
            <a:ext cx="6688080" cy="2103480"/>
          </a:xfrm>
          <a:prstGeom prst="rect">
            <a:avLst/>
          </a:prstGeom>
          <a:ln w="0">
            <a:noFill/>
          </a:ln>
        </p:spPr>
      </p:pic>
      <p:sp>
        <p:nvSpPr>
          <p:cNvPr id="1726" name="TextBox 4"/>
          <p:cNvSpPr/>
          <p:nvPr/>
        </p:nvSpPr>
        <p:spPr>
          <a:xfrm>
            <a:off x="304920" y="268200"/>
            <a:ext cx="8610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Calibri"/>
              </a:rPr>
              <a:t>Sustainable intensification of maize-legume-livestock integrated farming systems in Eastern and Souther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alibri"/>
              </a:rPr>
              <a:t>IITA-Dar es Salaam, Tanzania, 6-9 Feb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7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1728" name="Rectangle 8" descr=""/>
          <p:cNvPicPr/>
          <p:nvPr/>
        </p:nvPicPr>
        <p:blipFill>
          <a:blip r:embed="rId3"/>
          <a:stretch/>
        </p:blipFill>
        <p:spPr>
          <a:xfrm>
            <a:off x="378000" y="1719360"/>
            <a:ext cx="8619840" cy="1176120"/>
          </a:xfrm>
          <a:prstGeom prst="rect">
            <a:avLst/>
          </a:prstGeom>
          <a:ln w="0">
            <a:noFill/>
          </a:ln>
        </p:spPr>
      </p:pic>
      <p:pic>
        <p:nvPicPr>
          <p:cNvPr id="1729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1730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1731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type Intensification I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9" name="Picture 2" descr=""/>
          <p:cNvPicPr/>
          <p:nvPr/>
        </p:nvPicPr>
        <p:blipFill>
          <a:blip r:embed="rId1"/>
          <a:stretch/>
        </p:blipFill>
        <p:spPr>
          <a:xfrm>
            <a:off x="498600" y="1219320"/>
            <a:ext cx="8378640" cy="5511600"/>
          </a:xfrm>
          <a:prstGeom prst="rect">
            <a:avLst/>
          </a:prstGeom>
          <a:ln w="0">
            <a:noFill/>
          </a:ln>
        </p:spPr>
      </p:pic>
      <p:sp>
        <p:nvSpPr>
          <p:cNvPr id="1860" name="TextBox 2"/>
          <p:cNvSpPr/>
          <p:nvPr/>
        </p:nvSpPr>
        <p:spPr>
          <a:xfrm>
            <a:off x="290880" y="6478560"/>
            <a:ext cx="453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: Based on Agricultural Sample Enumeration 2001-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rm-Scale Crop Enterprises (Tanzani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2" name="Picture 2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05800" cy="5639040"/>
          </a:xfrm>
          <a:prstGeom prst="rect">
            <a:avLst/>
          </a:prstGeom>
          <a:ln w="0">
            <a:noFill/>
          </a:ln>
        </p:spPr>
      </p:pic>
      <p:sp>
        <p:nvSpPr>
          <p:cNvPr id="1863" name="TextBox 3"/>
          <p:cNvSpPr/>
          <p:nvPr/>
        </p:nvSpPr>
        <p:spPr>
          <a:xfrm>
            <a:off x="354600" y="647856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: Based on Tanzania Agricultural Census 2007-08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based on minimum land area allocation or 0.02ha per cro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4" name="Group 26"/>
          <p:cNvGrpSpPr/>
          <p:nvPr/>
        </p:nvGrpSpPr>
        <p:grpSpPr>
          <a:xfrm>
            <a:off x="380880" y="2895480"/>
            <a:ext cx="3429000" cy="3447000"/>
            <a:chOff x="380880" y="2895480"/>
            <a:chExt cx="3429000" cy="3447000"/>
          </a:xfrm>
        </p:grpSpPr>
        <p:pic>
          <p:nvPicPr>
            <p:cNvPr id="1865" name="Picture 17" descr="Objective3_Walsh_Page_10_Image_0001.jpg"/>
            <p:cNvPicPr/>
            <p:nvPr/>
          </p:nvPicPr>
          <p:blipFill>
            <a:blip r:embed="rId1"/>
            <a:stretch/>
          </p:blipFill>
          <p:spPr>
            <a:xfrm>
              <a:off x="380880" y="2895480"/>
              <a:ext cx="1773360" cy="18288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66" name="TextBox 22"/>
            <p:cNvSpPr/>
            <p:nvPr/>
          </p:nvSpPr>
          <p:spPr>
            <a:xfrm>
              <a:off x="456840" y="5943600"/>
              <a:ext cx="335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Ele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7" name="Group 33"/>
          <p:cNvGrpSpPr/>
          <p:nvPr/>
        </p:nvGrpSpPr>
        <p:grpSpPr>
          <a:xfrm>
            <a:off x="379440" y="3124080"/>
            <a:ext cx="3352680" cy="3218400"/>
            <a:chOff x="379440" y="3124080"/>
            <a:chExt cx="3352680" cy="3218400"/>
          </a:xfrm>
        </p:grpSpPr>
        <p:pic>
          <p:nvPicPr>
            <p:cNvPr id="1868" name="Picture 18" descr="Objective3_Walsh_Page_10_Image_0003.jpg"/>
            <p:cNvPicPr/>
            <p:nvPr/>
          </p:nvPicPr>
          <p:blipFill>
            <a:blip r:embed="rId2"/>
            <a:stretch/>
          </p:blipFill>
          <p:spPr>
            <a:xfrm>
              <a:off x="469080" y="3124080"/>
              <a:ext cx="1752480" cy="182016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69" name="TextBox 32"/>
            <p:cNvSpPr/>
            <p:nvPr/>
          </p:nvSpPr>
          <p:spPr>
            <a:xfrm>
              <a:off x="379440" y="5943600"/>
              <a:ext cx="3352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lope, aspect, drain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0" name="Group 35"/>
          <p:cNvGrpSpPr/>
          <p:nvPr/>
        </p:nvGrpSpPr>
        <p:grpSpPr>
          <a:xfrm>
            <a:off x="345960" y="3352680"/>
            <a:ext cx="3353040" cy="2980440"/>
            <a:chOff x="345960" y="3352680"/>
            <a:chExt cx="3353040" cy="2980440"/>
          </a:xfrm>
        </p:grpSpPr>
        <p:pic>
          <p:nvPicPr>
            <p:cNvPr id="1871" name="Picture 12" descr="point_thresholds_all.jpg"/>
            <p:cNvPicPr/>
            <p:nvPr/>
          </p:nvPicPr>
          <p:blipFill>
            <a:blip r:embed="rId3"/>
            <a:stretch/>
          </p:blipFill>
          <p:spPr>
            <a:xfrm>
              <a:off x="556560" y="3352680"/>
              <a:ext cx="1752840" cy="183024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72" name="TextBox 34"/>
            <p:cNvSpPr/>
            <p:nvPr/>
          </p:nvSpPr>
          <p:spPr>
            <a:xfrm>
              <a:off x="345960" y="5934240"/>
              <a:ext cx="335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ettlements, ports, marke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Group 37"/>
          <p:cNvGrpSpPr/>
          <p:nvPr/>
        </p:nvGrpSpPr>
        <p:grpSpPr>
          <a:xfrm>
            <a:off x="250920" y="3505320"/>
            <a:ext cx="3352680" cy="2837160"/>
            <a:chOff x="250920" y="3505320"/>
            <a:chExt cx="3352680" cy="2837160"/>
          </a:xfrm>
        </p:grpSpPr>
        <p:pic>
          <p:nvPicPr>
            <p:cNvPr id="1874" name="Picture 6" descr=""/>
            <p:cNvPicPr/>
            <p:nvPr/>
          </p:nvPicPr>
          <p:blipFill>
            <a:blip r:embed="rId4"/>
            <a:stretch/>
          </p:blipFill>
          <p:spPr>
            <a:xfrm>
              <a:off x="631800" y="3505320"/>
              <a:ext cx="18478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TextBox 36"/>
            <p:cNvSpPr/>
            <p:nvPr/>
          </p:nvSpPr>
          <p:spPr>
            <a:xfrm>
              <a:off x="250920" y="5943600"/>
              <a:ext cx="3352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oad, rail, river, ICT networ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6" name="Group 48"/>
          <p:cNvGrpSpPr/>
          <p:nvPr/>
        </p:nvGrpSpPr>
        <p:grpSpPr>
          <a:xfrm>
            <a:off x="222120" y="3733920"/>
            <a:ext cx="3276720" cy="2608560"/>
            <a:chOff x="222120" y="3733920"/>
            <a:chExt cx="3276720" cy="2608560"/>
          </a:xfrm>
        </p:grpSpPr>
        <p:grpSp>
          <p:nvGrpSpPr>
            <p:cNvPr id="1877" name="Group 45"/>
            <p:cNvGrpSpPr/>
            <p:nvPr/>
          </p:nvGrpSpPr>
          <p:grpSpPr>
            <a:xfrm>
              <a:off x="771840" y="3733920"/>
              <a:ext cx="1828800" cy="1828800"/>
              <a:chOff x="771840" y="3733920"/>
              <a:chExt cx="1828800" cy="1828800"/>
            </a:xfrm>
          </p:grpSpPr>
          <p:pic>
            <p:nvPicPr>
              <p:cNvPr id="1878" name="Picture 8" descr=""/>
              <p:cNvPicPr/>
              <p:nvPr/>
            </p:nvPicPr>
            <p:blipFill>
              <a:blip r:embed="rId5"/>
              <a:stretch/>
            </p:blipFill>
            <p:spPr>
              <a:xfrm>
                <a:off x="771840" y="3733920"/>
                <a:ext cx="1828800" cy="182880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879" name="Rectangle 35"/>
              <p:cNvSpPr/>
              <p:nvPr/>
            </p:nvSpPr>
            <p:spPr>
              <a:xfrm>
                <a:off x="923400" y="480060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0" name="TextBox 46"/>
            <p:cNvSpPr/>
            <p:nvPr/>
          </p:nvSpPr>
          <p:spPr>
            <a:xfrm>
              <a:off x="222120" y="5943600"/>
              <a:ext cx="32767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arket travel times &amp; co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280800" y="22032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unger, Poverty &amp; Productivit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atial Covariates/Proxies &amp; Analytical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2" name="Group 50"/>
          <p:cNvGrpSpPr/>
          <p:nvPr/>
        </p:nvGrpSpPr>
        <p:grpSpPr>
          <a:xfrm>
            <a:off x="176040" y="3886200"/>
            <a:ext cx="3657600" cy="2456280"/>
            <a:chOff x="176040" y="3886200"/>
            <a:chExt cx="3657600" cy="2456280"/>
          </a:xfrm>
        </p:grpSpPr>
        <p:sp>
          <p:nvSpPr>
            <p:cNvPr id="1883" name="TextBox 49"/>
            <p:cNvSpPr/>
            <p:nvPr/>
          </p:nvSpPr>
          <p:spPr>
            <a:xfrm>
              <a:off x="176040" y="5943600"/>
              <a:ext cx="36576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Port travel times &amp; co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4" name="Picture 42" descr="Ports&amp;Markestheds.jpg"/>
            <p:cNvPicPr/>
            <p:nvPr/>
          </p:nvPicPr>
          <p:blipFill>
            <a:blip r:embed="rId6"/>
            <a:stretch/>
          </p:blipFill>
          <p:spPr>
            <a:xfrm>
              <a:off x="901440" y="3886200"/>
              <a:ext cx="1841040" cy="184284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</p:grpSp>
      <p:sp>
        <p:nvSpPr>
          <p:cNvPr id="1885" name="TextBox 51"/>
          <p:cNvSpPr/>
          <p:nvPr/>
        </p:nvSpPr>
        <p:spPr>
          <a:xfrm>
            <a:off x="330120" y="1484280"/>
            <a:ext cx="210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rrain, Demograph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frastructure, Admin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TextBox 52"/>
          <p:cNvSpPr/>
          <p:nvPr/>
        </p:nvSpPr>
        <p:spPr>
          <a:xfrm>
            <a:off x="2324160" y="1600200"/>
            <a:ext cx="210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vironment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Box 53"/>
          <p:cNvSpPr/>
          <p:nvPr/>
        </p:nvSpPr>
        <p:spPr>
          <a:xfrm>
            <a:off x="4240080" y="1600200"/>
            <a:ext cx="21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s &amp;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Box 54"/>
          <p:cNvSpPr/>
          <p:nvPr/>
        </p:nvSpPr>
        <p:spPr>
          <a:xfrm>
            <a:off x="6019920" y="1676520"/>
            <a:ext cx="21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ventio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9" name="Group 33"/>
          <p:cNvGrpSpPr/>
          <p:nvPr/>
        </p:nvGrpSpPr>
        <p:grpSpPr>
          <a:xfrm>
            <a:off x="0" y="2895480"/>
            <a:ext cx="4800600" cy="3447000"/>
            <a:chOff x="0" y="2895480"/>
            <a:chExt cx="4800600" cy="3447000"/>
          </a:xfrm>
        </p:grpSpPr>
        <p:pic>
          <p:nvPicPr>
            <p:cNvPr id="1890" name="Picture 30" descr="annex2_acz.jpg"/>
            <p:cNvPicPr/>
            <p:nvPr/>
          </p:nvPicPr>
          <p:blipFill>
            <a:blip r:embed="rId7"/>
            <a:stretch/>
          </p:blipFill>
          <p:spPr>
            <a:xfrm>
              <a:off x="2514600" y="2895480"/>
              <a:ext cx="1905120" cy="19810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91" name="TextBox 31"/>
            <p:cNvSpPr/>
            <p:nvPr/>
          </p:nvSpPr>
          <p:spPr>
            <a:xfrm>
              <a:off x="0" y="5943600"/>
              <a:ext cx="48006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Agroecological Z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2" name="Group 44"/>
          <p:cNvGrpSpPr/>
          <p:nvPr/>
        </p:nvGrpSpPr>
        <p:grpSpPr>
          <a:xfrm>
            <a:off x="2311560" y="3048120"/>
            <a:ext cx="2971800" cy="3264120"/>
            <a:chOff x="2311560" y="3048120"/>
            <a:chExt cx="2971800" cy="3264120"/>
          </a:xfrm>
        </p:grpSpPr>
        <p:grpSp>
          <p:nvGrpSpPr>
            <p:cNvPr id="1893" name="Group 42"/>
            <p:cNvGrpSpPr/>
            <p:nvPr/>
          </p:nvGrpSpPr>
          <p:grpSpPr>
            <a:xfrm>
              <a:off x="2616120" y="3048120"/>
              <a:ext cx="1828800" cy="1869480"/>
              <a:chOff x="2616120" y="3048120"/>
              <a:chExt cx="1828800" cy="1869480"/>
            </a:xfrm>
          </p:grpSpPr>
          <p:pic>
            <p:nvPicPr>
              <p:cNvPr id="1894" name="Picture 40" descr="annex2_agext.jpg"/>
              <p:cNvPicPr/>
              <p:nvPr/>
            </p:nvPicPr>
            <p:blipFill>
              <a:blip r:embed="rId8"/>
              <a:stretch/>
            </p:blipFill>
            <p:spPr>
              <a:xfrm>
                <a:off x="2616120" y="3048120"/>
                <a:ext cx="1828800" cy="1869480"/>
              </a:xfrm>
              <a:prstGeom prst="rect">
                <a:avLst/>
              </a:prstGeom>
              <a:ln w="22320">
                <a:solidFill>
                  <a:srgbClr val="385d8a"/>
                </a:solidFill>
                <a:miter/>
              </a:ln>
            </p:spPr>
          </p:pic>
          <p:pic>
            <p:nvPicPr>
              <p:cNvPr id="1895" name="Picture 41" descr="annex2_agext.jpg"/>
              <p:cNvPicPr/>
              <p:nvPr/>
            </p:nvPicPr>
            <p:blipFill>
              <a:blip r:embed="rId9"/>
              <a:stretch/>
            </p:blipFill>
            <p:spPr>
              <a:xfrm>
                <a:off x="2624760" y="4101480"/>
                <a:ext cx="685800" cy="71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96" name="TextBox 43"/>
            <p:cNvSpPr/>
            <p:nvPr/>
          </p:nvSpPr>
          <p:spPr>
            <a:xfrm>
              <a:off x="2311560" y="5943960"/>
              <a:ext cx="2971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land extent &amp; int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7" name="Group 60"/>
          <p:cNvGrpSpPr/>
          <p:nvPr/>
        </p:nvGrpSpPr>
        <p:grpSpPr>
          <a:xfrm>
            <a:off x="2072160" y="3200400"/>
            <a:ext cx="3658320" cy="3111840"/>
            <a:chOff x="2072160" y="3200400"/>
            <a:chExt cx="3658320" cy="3111840"/>
          </a:xfrm>
        </p:grpSpPr>
        <p:pic>
          <p:nvPicPr>
            <p:cNvPr id="1898" name="Picture 13" descr="cpartellus-africa-gis-high res-trimmed"/>
            <p:cNvPicPr/>
            <p:nvPr/>
          </p:nvPicPr>
          <p:blipFill>
            <a:blip r:embed="rId10"/>
            <a:stretch/>
          </p:blipFill>
          <p:spPr>
            <a:xfrm>
              <a:off x="2716920" y="3200400"/>
              <a:ext cx="1910160" cy="199512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99" name="TextBox 59"/>
            <p:cNvSpPr/>
            <p:nvPr/>
          </p:nvSpPr>
          <p:spPr>
            <a:xfrm>
              <a:off x="2072160" y="5943960"/>
              <a:ext cx="3658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ests &amp; Diseases (Maize Stem Bor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0" name="Group 63"/>
          <p:cNvGrpSpPr/>
          <p:nvPr/>
        </p:nvGrpSpPr>
        <p:grpSpPr>
          <a:xfrm>
            <a:off x="2057400" y="3340080"/>
            <a:ext cx="3657600" cy="2972160"/>
            <a:chOff x="2057400" y="3340080"/>
            <a:chExt cx="3657600" cy="2972160"/>
          </a:xfrm>
        </p:grpSpPr>
        <p:pic>
          <p:nvPicPr>
            <p:cNvPr id="1901" name="Picture 7" descr=""/>
            <p:cNvPicPr/>
            <p:nvPr/>
          </p:nvPicPr>
          <p:blipFill>
            <a:blip r:embed="rId11"/>
            <a:stretch/>
          </p:blipFill>
          <p:spPr>
            <a:xfrm>
              <a:off x="2806560" y="3340080"/>
              <a:ext cx="196092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2" name="TextBox 62"/>
            <p:cNvSpPr/>
            <p:nvPr/>
          </p:nvSpPr>
          <p:spPr>
            <a:xfrm>
              <a:off x="2057400" y="5943960"/>
              <a:ext cx="3657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rought Incidence &amp; Seve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Group 66"/>
          <p:cNvGrpSpPr/>
          <p:nvPr/>
        </p:nvGrpSpPr>
        <p:grpSpPr>
          <a:xfrm>
            <a:off x="2093760" y="3479760"/>
            <a:ext cx="3429000" cy="2832480"/>
            <a:chOff x="2093760" y="3479760"/>
            <a:chExt cx="3429000" cy="2832480"/>
          </a:xfrm>
        </p:grpSpPr>
        <p:pic>
          <p:nvPicPr>
            <p:cNvPr id="1904" name="Picture 15" descr=""/>
            <p:cNvPicPr/>
            <p:nvPr/>
          </p:nvPicPr>
          <p:blipFill>
            <a:blip r:embed="rId12"/>
            <a:stretch/>
          </p:blipFill>
          <p:spPr>
            <a:xfrm>
              <a:off x="2932920" y="3479760"/>
              <a:ext cx="1905120" cy="20584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05" name="TextBox 65"/>
            <p:cNvSpPr/>
            <p:nvPr/>
          </p:nvSpPr>
          <p:spPr>
            <a:xfrm>
              <a:off x="2093760" y="5943960"/>
              <a:ext cx="3429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un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Group 84"/>
          <p:cNvGrpSpPr/>
          <p:nvPr/>
        </p:nvGrpSpPr>
        <p:grpSpPr>
          <a:xfrm>
            <a:off x="-304920" y="4013280"/>
            <a:ext cx="3357360" cy="2387520"/>
            <a:chOff x="-304920" y="4013280"/>
            <a:chExt cx="3357360" cy="2387520"/>
          </a:xfrm>
        </p:grpSpPr>
        <p:grpSp>
          <p:nvGrpSpPr>
            <p:cNvPr id="1907" name="Group 82"/>
            <p:cNvGrpSpPr/>
            <p:nvPr/>
          </p:nvGrpSpPr>
          <p:grpSpPr>
            <a:xfrm>
              <a:off x="918000" y="4013280"/>
              <a:ext cx="2134440" cy="2298600"/>
              <a:chOff x="918000" y="4013280"/>
              <a:chExt cx="2134440" cy="2298600"/>
            </a:xfrm>
          </p:grpSpPr>
          <p:pic>
            <p:nvPicPr>
              <p:cNvPr id="1908" name="Picture 2" descr=""/>
              <p:cNvPicPr/>
              <p:nvPr/>
            </p:nvPicPr>
            <p:blipFill>
              <a:blip r:embed="rId13"/>
              <a:stretch/>
            </p:blipFill>
            <p:spPr>
              <a:xfrm>
                <a:off x="1003320" y="4013280"/>
                <a:ext cx="1905480" cy="181188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909" name="TextBox 81"/>
              <p:cNvSpPr/>
              <p:nvPr/>
            </p:nvSpPr>
            <p:spPr>
              <a:xfrm>
                <a:off x="918000" y="5943600"/>
                <a:ext cx="2134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Administrative Uni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0" name="Rectangle 83"/>
            <p:cNvSpPr/>
            <p:nvPr/>
          </p:nvSpPr>
          <p:spPr>
            <a:xfrm>
              <a:off x="-304920" y="5943600"/>
              <a:ext cx="121932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1" name="Group 73"/>
          <p:cNvGrpSpPr/>
          <p:nvPr/>
        </p:nvGrpSpPr>
        <p:grpSpPr>
          <a:xfrm>
            <a:off x="2422440" y="2882880"/>
            <a:ext cx="4191120" cy="3429360"/>
            <a:chOff x="2422440" y="2882880"/>
            <a:chExt cx="4191120" cy="3429360"/>
          </a:xfrm>
        </p:grpSpPr>
        <p:pic>
          <p:nvPicPr>
            <p:cNvPr id="1912" name="Picture 67" descr="SSA_en.jpg"/>
            <p:cNvPicPr/>
            <p:nvPr/>
          </p:nvPicPr>
          <p:blipFill>
            <a:blip r:embed="rId14"/>
            <a:stretch/>
          </p:blipFill>
          <p:spPr>
            <a:xfrm>
              <a:off x="4521600" y="2882880"/>
              <a:ext cx="1930680" cy="20574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13" name="TextBox 68"/>
            <p:cNvSpPr/>
            <p:nvPr/>
          </p:nvSpPr>
          <p:spPr>
            <a:xfrm>
              <a:off x="2422440" y="5943960"/>
              <a:ext cx="4191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arming 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4" name="Group 74"/>
          <p:cNvGrpSpPr/>
          <p:nvPr/>
        </p:nvGrpSpPr>
        <p:grpSpPr>
          <a:xfrm>
            <a:off x="4164120" y="3009960"/>
            <a:ext cx="3352680" cy="3339360"/>
            <a:chOff x="4164120" y="3009960"/>
            <a:chExt cx="3352680" cy="3339360"/>
          </a:xfrm>
        </p:grpSpPr>
        <p:pic>
          <p:nvPicPr>
            <p:cNvPr id="1915" name="Picture 3" descr=""/>
            <p:cNvPicPr/>
            <p:nvPr/>
          </p:nvPicPr>
          <p:blipFill>
            <a:blip r:embed="rId15"/>
            <a:stretch/>
          </p:blipFill>
          <p:spPr>
            <a:xfrm>
              <a:off x="4659120" y="3009960"/>
              <a:ext cx="1905120" cy="2057400"/>
            </a:xfrm>
            <a:prstGeom prst="rect">
              <a:avLst/>
            </a:prstGeom>
            <a:ln w="22320">
              <a:solidFill>
                <a:srgbClr val="385d8a"/>
              </a:solidFill>
              <a:miter/>
            </a:ln>
          </p:spPr>
        </p:pic>
        <p:sp>
          <p:nvSpPr>
            <p:cNvPr id="1916" name="TextBox 71"/>
            <p:cNvSpPr/>
            <p:nvPr/>
          </p:nvSpPr>
          <p:spPr>
            <a:xfrm>
              <a:off x="4164120" y="5981040"/>
              <a:ext cx="3352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 Suitability: Rainfed Whe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7" name="Group 78"/>
          <p:cNvGrpSpPr/>
          <p:nvPr/>
        </p:nvGrpSpPr>
        <p:grpSpPr>
          <a:xfrm>
            <a:off x="3963960" y="2921040"/>
            <a:ext cx="3367080" cy="3402720"/>
            <a:chOff x="3963960" y="2921040"/>
            <a:chExt cx="3367080" cy="3402720"/>
          </a:xfrm>
        </p:grpSpPr>
        <p:pic>
          <p:nvPicPr>
            <p:cNvPr id="1918" name="Picture 3" descr="cropmap_pulse3"/>
            <p:cNvPicPr/>
            <p:nvPr/>
          </p:nvPicPr>
          <p:blipFill>
            <a:blip r:embed="rId16"/>
            <a:stretch/>
          </p:blipFill>
          <p:spPr>
            <a:xfrm>
              <a:off x="3963960" y="2921040"/>
              <a:ext cx="2762640" cy="266616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19" name="TextBox 77"/>
            <p:cNvSpPr/>
            <p:nvPr/>
          </p:nvSpPr>
          <p:spPr>
            <a:xfrm>
              <a:off x="4053960" y="5955480"/>
              <a:ext cx="327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 Distribution &amp; Yiel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Group 79"/>
          <p:cNvGrpSpPr/>
          <p:nvPr/>
        </p:nvGrpSpPr>
        <p:grpSpPr>
          <a:xfrm>
            <a:off x="3732480" y="3125880"/>
            <a:ext cx="3696480" cy="3186720"/>
            <a:chOff x="3732480" y="3125880"/>
            <a:chExt cx="3696480" cy="3186720"/>
          </a:xfrm>
        </p:grpSpPr>
        <p:pic>
          <p:nvPicPr>
            <p:cNvPr id="1921" name="Content Placeholder 4" descr="val_of_prod_pcap_v2.jpg"/>
            <p:cNvPicPr/>
            <p:nvPr/>
          </p:nvPicPr>
          <p:blipFill>
            <a:blip r:embed="rId17"/>
            <a:stretch/>
          </p:blipFill>
          <p:spPr>
            <a:xfrm>
              <a:off x="4668120" y="3125880"/>
              <a:ext cx="1905120" cy="2056680"/>
            </a:xfrm>
            <a:prstGeom prst="rect">
              <a:avLst/>
            </a:prstGeom>
            <a:ln w="22320">
              <a:solidFill>
                <a:srgbClr val="4f81bd"/>
              </a:solidFill>
              <a:miter/>
            </a:ln>
          </p:spPr>
        </p:pic>
        <p:pic>
          <p:nvPicPr>
            <p:cNvPr id="1922" name="Content Placeholder 4" descr="val_of_prod_pcap_v2.jpg"/>
            <p:cNvPicPr/>
            <p:nvPr/>
          </p:nvPicPr>
          <p:blipFill>
            <a:blip r:embed="rId18"/>
            <a:stretch/>
          </p:blipFill>
          <p:spPr>
            <a:xfrm>
              <a:off x="4757040" y="3214800"/>
              <a:ext cx="2057760" cy="2056680"/>
            </a:xfrm>
            <a:prstGeom prst="rect">
              <a:avLst/>
            </a:prstGeom>
            <a:ln w="22320">
              <a:solidFill>
                <a:srgbClr val="4f81bd"/>
              </a:solidFill>
              <a:miter/>
            </a:ln>
          </p:spPr>
        </p:pic>
        <p:sp>
          <p:nvSpPr>
            <p:cNvPr id="1923" name="TextBox 76"/>
            <p:cNvSpPr/>
            <p:nvPr/>
          </p:nvSpPr>
          <p:spPr>
            <a:xfrm>
              <a:off x="3732480" y="5944320"/>
              <a:ext cx="3696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Value of Production per Rural 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4" name="Group 87"/>
          <p:cNvGrpSpPr/>
          <p:nvPr/>
        </p:nvGrpSpPr>
        <p:grpSpPr>
          <a:xfrm>
            <a:off x="1881360" y="2895480"/>
            <a:ext cx="7030800" cy="3416760"/>
            <a:chOff x="1881360" y="2895480"/>
            <a:chExt cx="7030800" cy="3416760"/>
          </a:xfrm>
        </p:grpSpPr>
        <p:pic>
          <p:nvPicPr>
            <p:cNvPr id="1925" name="Picture 2" descr=""/>
            <p:cNvPicPr/>
            <p:nvPr/>
          </p:nvPicPr>
          <p:blipFill>
            <a:blip r:embed="rId19"/>
            <a:stretch/>
          </p:blipFill>
          <p:spPr>
            <a:xfrm>
              <a:off x="5484600" y="2895480"/>
              <a:ext cx="3049920" cy="24390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26" name="TextBox 86"/>
            <p:cNvSpPr/>
            <p:nvPr/>
          </p:nvSpPr>
          <p:spPr>
            <a:xfrm>
              <a:off x="1881360" y="5943960"/>
              <a:ext cx="7030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Yield Responses to Inputs, Management, C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7" name="Group 93"/>
          <p:cNvGrpSpPr/>
          <p:nvPr/>
        </p:nvGrpSpPr>
        <p:grpSpPr>
          <a:xfrm>
            <a:off x="3276720" y="2895480"/>
            <a:ext cx="6368760" cy="3505320"/>
            <a:chOff x="3276720" y="2895480"/>
            <a:chExt cx="6368760" cy="3505320"/>
          </a:xfrm>
        </p:grpSpPr>
        <p:grpSp>
          <p:nvGrpSpPr>
            <p:cNvPr id="1928" name="Group 91"/>
            <p:cNvGrpSpPr/>
            <p:nvPr/>
          </p:nvGrpSpPr>
          <p:grpSpPr>
            <a:xfrm>
              <a:off x="4464360" y="2895480"/>
              <a:ext cx="5181120" cy="3416400"/>
              <a:chOff x="4464360" y="2895480"/>
              <a:chExt cx="5181120" cy="3416400"/>
            </a:xfrm>
          </p:grpSpPr>
          <p:pic>
            <p:nvPicPr>
              <p:cNvPr id="1929" name="Picture 88" descr="rev_diff1.jpg"/>
              <p:cNvPicPr/>
              <p:nvPr/>
            </p:nvPicPr>
            <p:blipFill>
              <a:blip r:embed="rId20"/>
              <a:stretch/>
            </p:blipFill>
            <p:spPr>
              <a:xfrm>
                <a:off x="6247800" y="2895480"/>
                <a:ext cx="1780920" cy="175284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pic>
            <p:nvPicPr>
              <p:cNvPr id="1930" name="Picture 89" descr="rev_diff1.jpg"/>
              <p:cNvPicPr/>
              <p:nvPr/>
            </p:nvPicPr>
            <p:blipFill>
              <a:blip r:embed="rId21"/>
              <a:stretch/>
            </p:blipFill>
            <p:spPr>
              <a:xfrm>
                <a:off x="6324120" y="2971440"/>
                <a:ext cx="1935720" cy="190512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931" name="TextBox 90"/>
              <p:cNvSpPr/>
              <p:nvPr/>
            </p:nvSpPr>
            <p:spPr>
              <a:xfrm>
                <a:off x="4464360" y="5943600"/>
                <a:ext cx="51811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Profitability of small scale irrig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2" name="Rectangle 92"/>
            <p:cNvSpPr/>
            <p:nvPr/>
          </p:nvSpPr>
          <p:spPr>
            <a:xfrm>
              <a:off x="3276720" y="5867640"/>
              <a:ext cx="2057400" cy="53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3" name="Group 97"/>
          <p:cNvGrpSpPr/>
          <p:nvPr/>
        </p:nvGrpSpPr>
        <p:grpSpPr>
          <a:xfrm>
            <a:off x="5186520" y="3086280"/>
            <a:ext cx="4343400" cy="3226320"/>
            <a:chOff x="5186520" y="3086280"/>
            <a:chExt cx="4343400" cy="3226320"/>
          </a:xfrm>
        </p:grpSpPr>
        <p:pic>
          <p:nvPicPr>
            <p:cNvPr id="1934" name="Picture 94" descr="con_nutmap_wood.jpg"/>
            <p:cNvPicPr/>
            <p:nvPr/>
          </p:nvPicPr>
          <p:blipFill>
            <a:blip r:embed="rId22"/>
            <a:stretch/>
          </p:blipFill>
          <p:spPr>
            <a:xfrm>
              <a:off x="6437880" y="3086280"/>
              <a:ext cx="1981080" cy="19810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35" name="TextBox 96"/>
            <p:cNvSpPr/>
            <p:nvPr/>
          </p:nvSpPr>
          <p:spPr>
            <a:xfrm>
              <a:off x="5186520" y="594432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Quantity of Nutrients Remo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6" name="Group 100"/>
          <p:cNvGrpSpPr/>
          <p:nvPr/>
        </p:nvGrpSpPr>
        <p:grpSpPr>
          <a:xfrm>
            <a:off x="5638680" y="3198960"/>
            <a:ext cx="3722760" cy="3116880"/>
            <a:chOff x="5638680" y="3198960"/>
            <a:chExt cx="3722760" cy="3116880"/>
          </a:xfrm>
        </p:grpSpPr>
        <p:pic>
          <p:nvPicPr>
            <p:cNvPr id="1937" name="Picture 4" descr="E:\stan\ssa\kept_cities\results3\maize pixel price.jpg"/>
            <p:cNvPicPr/>
            <p:nvPr/>
          </p:nvPicPr>
          <p:blipFill>
            <a:blip r:embed="rId23"/>
            <a:stretch/>
          </p:blipFill>
          <p:spPr>
            <a:xfrm>
              <a:off x="6546960" y="3198960"/>
              <a:ext cx="1956960" cy="24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8" name="TextBox 99"/>
            <p:cNvSpPr/>
            <p:nvPr/>
          </p:nvSpPr>
          <p:spPr>
            <a:xfrm>
              <a:off x="5638680" y="5947560"/>
              <a:ext cx="3722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ertilizer Profita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9" name="Group 103"/>
          <p:cNvGrpSpPr/>
          <p:nvPr/>
        </p:nvGrpSpPr>
        <p:grpSpPr>
          <a:xfrm>
            <a:off x="6004080" y="2695680"/>
            <a:ext cx="3202920" cy="3616920"/>
            <a:chOff x="6004080" y="2695680"/>
            <a:chExt cx="3202920" cy="3616920"/>
          </a:xfrm>
        </p:grpSpPr>
        <p:pic>
          <p:nvPicPr>
            <p:cNvPr id="1940" name="Picture 101" descr="uganda_6.jpg"/>
            <p:cNvPicPr/>
            <p:nvPr/>
          </p:nvPicPr>
          <p:blipFill>
            <a:blip r:embed="rId24"/>
            <a:stretch/>
          </p:blipFill>
          <p:spPr>
            <a:xfrm>
              <a:off x="6335640" y="2695680"/>
              <a:ext cx="237456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1" name="TextBox 102"/>
            <p:cNvSpPr/>
            <p:nvPr/>
          </p:nvSpPr>
          <p:spPr>
            <a:xfrm>
              <a:off x="6004080" y="5944320"/>
              <a:ext cx="3202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istribution of Welfare Bene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2" name="Group 105"/>
          <p:cNvGrpSpPr/>
          <p:nvPr/>
        </p:nvGrpSpPr>
        <p:grpSpPr>
          <a:xfrm>
            <a:off x="5334120" y="1636560"/>
            <a:ext cx="4286160" cy="4675680"/>
            <a:chOff x="5334120" y="1636560"/>
            <a:chExt cx="4286160" cy="4675680"/>
          </a:xfrm>
        </p:grpSpPr>
        <p:grpSp>
          <p:nvGrpSpPr>
            <p:cNvPr id="1943" name="Group 57"/>
            <p:cNvGrpSpPr/>
            <p:nvPr/>
          </p:nvGrpSpPr>
          <p:grpSpPr>
            <a:xfrm>
              <a:off x="7363800" y="1636560"/>
              <a:ext cx="2256480" cy="3545280"/>
              <a:chOff x="7363800" y="1636560"/>
              <a:chExt cx="2256480" cy="3545280"/>
            </a:xfrm>
          </p:grpSpPr>
          <p:sp>
            <p:nvSpPr>
              <p:cNvPr id="1944" name="TextBox 55"/>
              <p:cNvSpPr/>
              <p:nvPr/>
            </p:nvSpPr>
            <p:spPr>
              <a:xfrm>
                <a:off x="7515000" y="1636560"/>
                <a:ext cx="2105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inkage 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Macr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Model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45" name="Picture 2" descr=""/>
              <p:cNvPicPr/>
              <p:nvPr/>
            </p:nvPicPr>
            <p:blipFill>
              <a:blip r:embed="rId25"/>
              <a:stretch/>
            </p:blipFill>
            <p:spPr>
              <a:xfrm>
                <a:off x="7363800" y="3276720"/>
                <a:ext cx="1780200" cy="1905120"/>
              </a:xfrm>
              <a:prstGeom prst="rect">
                <a:avLst/>
              </a:prstGeom>
              <a:ln w="9360">
                <a:solidFill>
                  <a:srgbClr val="385d8a"/>
                </a:solidFill>
                <a:miter/>
              </a:ln>
            </p:spPr>
          </p:pic>
        </p:grpSp>
        <p:sp>
          <p:nvSpPr>
            <p:cNvPr id="1946" name="TextBox 104"/>
            <p:cNvSpPr/>
            <p:nvPr/>
          </p:nvSpPr>
          <p:spPr>
            <a:xfrm>
              <a:off x="5334120" y="5943960"/>
              <a:ext cx="3809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ggregate to F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7" name="TextBox 84"/>
          <p:cNvSpPr/>
          <p:nvPr/>
        </p:nvSpPr>
        <p:spPr>
          <a:xfrm>
            <a:off x="240840" y="655020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HarvestChoice/IFPR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8" name="Picture 1" descr="wheat high input suitability aez 2009.jpg"/>
          <p:cNvPicPr/>
          <p:nvPr/>
        </p:nvPicPr>
        <p:blipFill>
          <a:blip r:embed="rId1"/>
          <a:stretch/>
        </p:blipFill>
        <p:spPr>
          <a:xfrm>
            <a:off x="1243080" y="146160"/>
            <a:ext cx="3146400" cy="319392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  <p:sp>
        <p:nvSpPr>
          <p:cNvPr id="1949" name="TextBox 8"/>
          <p:cNvSpPr/>
          <p:nvPr/>
        </p:nvSpPr>
        <p:spPr>
          <a:xfrm rot="16200000">
            <a:off x="-3244680" y="3244680"/>
            <a:ext cx="6858000" cy="368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AINFED W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Box 9"/>
          <p:cNvSpPr/>
          <p:nvPr/>
        </p:nvSpPr>
        <p:spPr>
          <a:xfrm rot="16200000">
            <a:off x="-934920" y="1293480"/>
            <a:ext cx="2968920" cy="368280"/>
          </a:xfrm>
          <a:prstGeom prst="rect">
            <a:avLst/>
          </a:prstGeom>
          <a:solidFill>
            <a:srgbClr val="9a9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. Agro-climatic sui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1" name="Group 53"/>
          <p:cNvGrpSpPr/>
          <p:nvPr/>
        </p:nvGrpSpPr>
        <p:grpSpPr>
          <a:xfrm>
            <a:off x="5783400" y="1293840"/>
            <a:ext cx="3433680" cy="2340000"/>
            <a:chOff x="5783400" y="1293840"/>
            <a:chExt cx="3433680" cy="2340000"/>
          </a:xfrm>
        </p:grpSpPr>
        <p:pic>
          <p:nvPicPr>
            <p:cNvPr id="1952" name="Content Placeholder 14" descr="t28.tif"/>
            <p:cNvPicPr/>
            <p:nvPr/>
          </p:nvPicPr>
          <p:blipFill>
            <a:blip r:embed="rId2"/>
            <a:stretch/>
          </p:blipFill>
          <p:spPr>
            <a:xfrm>
              <a:off x="6828480" y="1293840"/>
              <a:ext cx="238860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3" name="Right Arrow 15"/>
            <p:cNvSpPr/>
            <p:nvPr/>
          </p:nvSpPr>
          <p:spPr>
            <a:xfrm rot="1899600">
              <a:off x="7097760" y="1969920"/>
              <a:ext cx="504720" cy="380880"/>
            </a:xfrm>
            <a:prstGeom prst="rightArrow">
              <a:avLst>
                <a:gd name="adj1" fmla="val 50000"/>
                <a:gd name="adj2" fmla="val 49993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4298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TextBox 17"/>
            <p:cNvSpPr/>
            <p:nvPr/>
          </p:nvSpPr>
          <p:spPr>
            <a:xfrm>
              <a:off x="5783400" y="2705040"/>
              <a:ext cx="979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Recommend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Fertilizer R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5" name="Group 55"/>
          <p:cNvGrpSpPr/>
          <p:nvPr/>
        </p:nvGrpSpPr>
        <p:grpSpPr>
          <a:xfrm>
            <a:off x="4537080" y="10800"/>
            <a:ext cx="4167360" cy="2949480"/>
            <a:chOff x="4537080" y="10800"/>
            <a:chExt cx="4167360" cy="2949480"/>
          </a:xfrm>
        </p:grpSpPr>
        <p:sp>
          <p:nvSpPr>
            <p:cNvPr id="1956" name="TextBox 16"/>
            <p:cNvSpPr/>
            <p:nvPr/>
          </p:nvSpPr>
          <p:spPr>
            <a:xfrm>
              <a:off x="5169960" y="1922400"/>
              <a:ext cx="64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N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Fertiliz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7" name="Group 54"/>
            <p:cNvGrpSpPr/>
            <p:nvPr/>
          </p:nvGrpSpPr>
          <p:grpSpPr>
            <a:xfrm>
              <a:off x="4537080" y="10800"/>
              <a:ext cx="4167360" cy="2949480"/>
              <a:chOff x="4537080" y="10800"/>
              <a:chExt cx="4167360" cy="2949480"/>
            </a:xfrm>
          </p:grpSpPr>
          <p:sp>
            <p:nvSpPr>
              <p:cNvPr id="1958" name="TextBox 10"/>
              <p:cNvSpPr/>
              <p:nvPr/>
            </p:nvSpPr>
            <p:spPr>
              <a:xfrm rot="16200000">
                <a:off x="3383640" y="1164240"/>
                <a:ext cx="2949480" cy="642600"/>
              </a:xfrm>
              <a:prstGeom prst="rect">
                <a:avLst/>
              </a:prstGeom>
              <a:solidFill>
                <a:srgbClr val="9a9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31840"/>
                    <a:tab algn="l" pos="463680"/>
                    <a:tab algn="l" pos="695160"/>
                    <a:tab algn="l" pos="927000"/>
                    <a:tab algn="l" pos="1158840"/>
                    <a:tab algn="l" pos="1390680"/>
                    <a:tab algn="l" pos="1622520"/>
                    <a:tab algn="l" pos="1854360"/>
                    <a:tab algn="l" pos="2085840"/>
                    <a:tab algn="l" pos="2317680"/>
                    <a:tab algn="l" pos="2549520"/>
                    <a:tab algn="l" pos="2781360"/>
                    <a:tab algn="l" pos="3013200"/>
                    <a:tab algn="l" pos="3244680"/>
                    <a:tab algn="l" pos="3476520"/>
                    <a:tab algn="l" pos="3708360"/>
                    <a:tab algn="l" pos="3940200"/>
                    <a:tab algn="l" pos="4172040"/>
                    <a:tab algn="l" pos="4403880"/>
                    <a:tab algn="l" pos="463536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2.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Yield responses to fertilizer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9" name="Group 52"/>
              <p:cNvGrpSpPr/>
              <p:nvPr/>
            </p:nvGrpSpPr>
            <p:grpSpPr>
              <a:xfrm>
                <a:off x="4907160" y="73800"/>
                <a:ext cx="3797280" cy="2226600"/>
                <a:chOff x="4907160" y="73800"/>
                <a:chExt cx="3797280" cy="2226600"/>
              </a:xfrm>
            </p:grpSpPr>
            <p:pic>
              <p:nvPicPr>
                <p:cNvPr id="1960" name="Content Placeholder 15" descr="t29.tif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907160" y="73800"/>
                  <a:ext cx="2274120" cy="222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1" name="Picture 2" descr=""/>
                <p:cNvPicPr/>
                <p:nvPr/>
              </p:nvPicPr>
              <p:blipFill>
                <a:blip r:embed="rId4"/>
                <a:srcRect l="0" t="0" r="0" b="37609"/>
                <a:stretch/>
              </p:blipFill>
              <p:spPr>
                <a:xfrm>
                  <a:off x="7576560" y="393480"/>
                  <a:ext cx="654840" cy="1015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62" name="TextBox 18"/>
                <p:cNvSpPr/>
                <p:nvPr/>
              </p:nvSpPr>
              <p:spPr>
                <a:xfrm>
                  <a:off x="7515000" y="166320"/>
                  <a:ext cx="1189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alibri"/>
                    </a:rPr>
                    <a:t>Mean Yield (kg/ha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TextBox 19"/>
                <p:cNvSpPr/>
                <p:nvPr/>
              </p:nvSpPr>
              <p:spPr>
                <a:xfrm>
                  <a:off x="7674120" y="776160"/>
                  <a:ext cx="4122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alibri"/>
                    </a:rPr>
                    <a:t>4000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64" name="Group 56"/>
          <p:cNvGrpSpPr/>
          <p:nvPr/>
        </p:nvGrpSpPr>
        <p:grpSpPr>
          <a:xfrm>
            <a:off x="368280" y="3429000"/>
            <a:ext cx="4137120" cy="3182760"/>
            <a:chOff x="368280" y="3429000"/>
            <a:chExt cx="4137120" cy="3182760"/>
          </a:xfrm>
        </p:grpSpPr>
        <p:sp>
          <p:nvSpPr>
            <p:cNvPr id="1965" name="TextBox 11"/>
            <p:cNvSpPr/>
            <p:nvPr/>
          </p:nvSpPr>
          <p:spPr>
            <a:xfrm rot="16200000">
              <a:off x="-1003680" y="4812480"/>
              <a:ext cx="3112920" cy="368280"/>
            </a:xfrm>
            <a:prstGeom prst="rect">
              <a:avLst/>
            </a:prstGeom>
            <a:solidFill>
              <a:srgbClr val="9a9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.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Modeling of farm-gate pr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6" name="Content Placeholder 6" descr="wh12_2_from_port.png"/>
            <p:cNvPicPr/>
            <p:nvPr/>
          </p:nvPicPr>
          <p:blipFill>
            <a:blip r:embed="rId5"/>
            <a:stretch/>
          </p:blipFill>
          <p:spPr>
            <a:xfrm>
              <a:off x="1106280" y="3647160"/>
              <a:ext cx="1419840" cy="14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7" name="Content Placeholder 7" descr="wh12_2_from_capital.png"/>
            <p:cNvPicPr/>
            <p:nvPr/>
          </p:nvPicPr>
          <p:blipFill>
            <a:blip r:embed="rId6"/>
            <a:stretch/>
          </p:blipFill>
          <p:spPr>
            <a:xfrm>
              <a:off x="1106280" y="5281200"/>
              <a:ext cx="1416600" cy="13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8" name="TextBox 21"/>
            <p:cNvSpPr/>
            <p:nvPr/>
          </p:nvSpPr>
          <p:spPr>
            <a:xfrm>
              <a:off x="752400" y="3429000"/>
              <a:ext cx="113040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Transport cost: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Port 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arm-g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TextBox 22"/>
            <p:cNvSpPr/>
            <p:nvPr/>
          </p:nvSpPr>
          <p:spPr>
            <a:xfrm>
              <a:off x="752400" y="4986360"/>
              <a:ext cx="113040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Transport cost: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apital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arm-g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0" name="Picture 4" descr=""/>
            <p:cNvPicPr/>
            <p:nvPr/>
          </p:nvPicPr>
          <p:blipFill>
            <a:blip r:embed="rId7"/>
            <a:stretch/>
          </p:blipFill>
          <p:spPr>
            <a:xfrm>
              <a:off x="2836800" y="3773520"/>
              <a:ext cx="150264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1" name="TextBox 26"/>
            <p:cNvSpPr/>
            <p:nvPr/>
          </p:nvSpPr>
          <p:spPr>
            <a:xfrm>
              <a:off x="2460600" y="3429000"/>
              <a:ext cx="1130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Wheat farming enterprise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2" name="Picture 5" descr=""/>
            <p:cNvPicPr/>
            <p:nvPr/>
          </p:nvPicPr>
          <p:blipFill>
            <a:blip r:embed="rId8"/>
            <a:stretch/>
          </p:blipFill>
          <p:spPr>
            <a:xfrm>
              <a:off x="2494440" y="5376960"/>
              <a:ext cx="2010960" cy="110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3" name="TextBox 30"/>
            <p:cNvSpPr/>
            <p:nvPr/>
          </p:nvSpPr>
          <p:spPr>
            <a:xfrm>
              <a:off x="2435400" y="5000400"/>
              <a:ext cx="16178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International wheat and fertilizer pr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4" name="Group 57"/>
          <p:cNvGrpSpPr/>
          <p:nvPr/>
        </p:nvGrpSpPr>
        <p:grpSpPr>
          <a:xfrm>
            <a:off x="4525920" y="3429000"/>
            <a:ext cx="4438800" cy="3154320"/>
            <a:chOff x="4525920" y="3429000"/>
            <a:chExt cx="4438800" cy="3154320"/>
          </a:xfrm>
        </p:grpSpPr>
        <p:sp>
          <p:nvSpPr>
            <p:cNvPr id="1975" name="TextBox 27"/>
            <p:cNvSpPr/>
            <p:nvPr/>
          </p:nvSpPr>
          <p:spPr>
            <a:xfrm rot="16200000">
              <a:off x="3132720" y="4821840"/>
              <a:ext cx="3154320" cy="368280"/>
            </a:xfrm>
            <a:prstGeom prst="rect">
              <a:avLst/>
            </a:prstGeom>
            <a:solidFill>
              <a:srgbClr val="9a9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.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rofitability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6" name="Group 50"/>
            <p:cNvGrpSpPr/>
            <p:nvPr/>
          </p:nvGrpSpPr>
          <p:grpSpPr>
            <a:xfrm>
              <a:off x="4962600" y="3444120"/>
              <a:ext cx="4002120" cy="3041640"/>
              <a:chOff x="4962600" y="3444120"/>
              <a:chExt cx="4002120" cy="3041640"/>
            </a:xfrm>
          </p:grpSpPr>
          <p:pic>
            <p:nvPicPr>
              <p:cNvPr id="1977" name="Picture 2" descr=""/>
              <p:cNvPicPr/>
              <p:nvPr/>
            </p:nvPicPr>
            <p:blipFill>
              <a:blip r:embed="rId9"/>
              <a:stretch/>
            </p:blipFill>
            <p:spPr>
              <a:xfrm>
                <a:off x="4962600" y="3444120"/>
                <a:ext cx="4002120" cy="2846520"/>
              </a:xfrm>
              <a:prstGeom prst="rect">
                <a:avLst/>
              </a:prstGeom>
              <a:ln w="9360">
                <a:solidFill>
                  <a:srgbClr val="254061"/>
                </a:solidFill>
                <a:miter/>
              </a:ln>
            </p:spPr>
          </p:pic>
          <p:sp>
            <p:nvSpPr>
              <p:cNvPr id="1978" name="TextBox 35"/>
              <p:cNvSpPr/>
              <p:nvPr/>
            </p:nvSpPr>
            <p:spPr>
              <a:xfrm>
                <a:off x="7220160" y="5782680"/>
                <a:ext cx="831600" cy="703080"/>
              </a:xfrm>
              <a:prstGeom prst="rect">
                <a:avLst/>
              </a:prstGeom>
              <a:solidFill>
                <a:srgbClr val="c6d9f1"/>
              </a:solidFill>
              <a:ln w="93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Profitabilit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Sensitivit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Analys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Tool (Exce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79" name="Picture 1" descr="wheat high input suitability aez 2009.jpg"/>
          <p:cNvPicPr/>
          <p:nvPr/>
        </p:nvPicPr>
        <p:blipFill>
          <a:blip r:embed="rId10"/>
          <a:stretch/>
        </p:blipFill>
        <p:spPr>
          <a:xfrm>
            <a:off x="731880" y="1511280"/>
            <a:ext cx="110016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980" name="Group 49"/>
          <p:cNvGrpSpPr/>
          <p:nvPr/>
        </p:nvGrpSpPr>
        <p:grpSpPr>
          <a:xfrm>
            <a:off x="5411880" y="663480"/>
            <a:ext cx="3109680" cy="2333880"/>
            <a:chOff x="5411880" y="663480"/>
            <a:chExt cx="3109680" cy="2333880"/>
          </a:xfrm>
        </p:grpSpPr>
        <p:sp>
          <p:nvSpPr>
            <p:cNvPr id="1981" name="Rectangle 40"/>
            <p:cNvSpPr/>
            <p:nvPr/>
          </p:nvSpPr>
          <p:spPr>
            <a:xfrm>
              <a:off x="5425920" y="663480"/>
              <a:ext cx="3095640" cy="233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2" name="Group 48"/>
            <p:cNvGrpSpPr/>
            <p:nvPr/>
          </p:nvGrpSpPr>
          <p:grpSpPr>
            <a:xfrm>
              <a:off x="5411880" y="715680"/>
              <a:ext cx="3106080" cy="2235600"/>
              <a:chOff x="5411880" y="715680"/>
              <a:chExt cx="3106080" cy="2235600"/>
            </a:xfrm>
          </p:grpSpPr>
          <p:pic>
            <p:nvPicPr>
              <p:cNvPr id="1983" name="Picture 39" descr="cumulative_eth_ken.png"/>
              <p:cNvPicPr/>
              <p:nvPr/>
            </p:nvPicPr>
            <p:blipFill>
              <a:blip r:embed="rId11"/>
              <a:stretch/>
            </p:blipFill>
            <p:spPr>
              <a:xfrm>
                <a:off x="5692320" y="898920"/>
                <a:ext cx="2825640" cy="184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4" name="TextBox 41"/>
              <p:cNvSpPr/>
              <p:nvPr/>
            </p:nvSpPr>
            <p:spPr>
              <a:xfrm>
                <a:off x="5972760" y="715680"/>
                <a:ext cx="232560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Variety: Digelu                                   Variety:  Veer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85" name="TextBox 42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11880" y="1060200"/>
                <a:ext cx="334800" cy="149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6" name="TextBox 43"/>
              <p:cNvSpPr/>
              <p:nvPr/>
            </p:nvSpPr>
            <p:spPr>
              <a:xfrm>
                <a:off x="6210720" y="2735640"/>
                <a:ext cx="1855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Yield                                                       Yie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TextBox 44"/>
              <p:cNvSpPr/>
              <p:nvPr/>
            </p:nvSpPr>
            <p:spPr>
              <a:xfrm>
                <a:off x="5977440" y="1010880"/>
                <a:ext cx="457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No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TextBox 45"/>
              <p:cNvSpPr/>
              <p:nvPr/>
            </p:nvSpPr>
            <p:spPr>
              <a:xfrm>
                <a:off x="6348240" y="1215720"/>
                <a:ext cx="52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100%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Rec.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TextBox 46"/>
              <p:cNvSpPr/>
              <p:nvPr/>
            </p:nvSpPr>
            <p:spPr>
              <a:xfrm>
                <a:off x="7385040" y="2040120"/>
                <a:ext cx="457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No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TextBox 47"/>
              <p:cNvSpPr/>
              <p:nvPr/>
            </p:nvSpPr>
            <p:spPr>
              <a:xfrm>
                <a:off x="7878960" y="2216160"/>
                <a:ext cx="52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100%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Rec.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1" name="Group 59"/>
          <p:cNvGrpSpPr/>
          <p:nvPr/>
        </p:nvGrpSpPr>
        <p:grpSpPr>
          <a:xfrm>
            <a:off x="4941720" y="4191120"/>
            <a:ext cx="4165920" cy="2595960"/>
            <a:chOff x="4941720" y="4191120"/>
            <a:chExt cx="4165920" cy="2595960"/>
          </a:xfrm>
        </p:grpSpPr>
        <p:sp>
          <p:nvSpPr>
            <p:cNvPr id="1992" name="TextBox 36"/>
            <p:cNvSpPr/>
            <p:nvPr/>
          </p:nvSpPr>
          <p:spPr>
            <a:xfrm>
              <a:off x="5565600" y="6540840"/>
              <a:ext cx="304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Net Economic Return and  Potential Prod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3" name="Picture 6" descr=""/>
            <p:cNvPicPr/>
            <p:nvPr/>
          </p:nvPicPr>
          <p:blipFill>
            <a:blip r:embed="rId13"/>
            <a:stretch/>
          </p:blipFill>
          <p:spPr>
            <a:xfrm>
              <a:off x="4941720" y="4191120"/>
              <a:ext cx="4165920" cy="2355840"/>
            </a:xfrm>
            <a:prstGeom prst="rect">
              <a:avLst/>
            </a:prstGeom>
            <a:ln w="9360">
              <a:solidFill>
                <a:srgbClr val="254061"/>
              </a:solidFill>
              <a:miter/>
            </a:ln>
          </p:spPr>
        </p:pic>
      </p:grpSp>
      <p:sp>
        <p:nvSpPr>
          <p:cNvPr id="1994" name="TextBox 48"/>
          <p:cNvSpPr/>
          <p:nvPr/>
        </p:nvSpPr>
        <p:spPr>
          <a:xfrm>
            <a:off x="365040" y="6599160"/>
            <a:ext cx="4783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ource: CIMMYT – HarvestChoice/IFPRI “Wheat Potential for Africa “ (2011 draf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ize-Legume Analytical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6" name="Picture 2" descr=""/>
          <p:cNvPicPr/>
          <p:nvPr/>
        </p:nvPicPr>
        <p:blipFill>
          <a:blip r:embed="rId1"/>
          <a:stretch/>
        </p:blipFill>
        <p:spPr>
          <a:xfrm>
            <a:off x="0" y="1347840"/>
            <a:ext cx="9144000" cy="5129280"/>
          </a:xfrm>
          <a:prstGeom prst="rect">
            <a:avLst/>
          </a:prstGeom>
          <a:ln w="15840">
            <a:solidFill>
              <a:srgbClr val="31859c"/>
            </a:solidFill>
            <a:miter/>
          </a:ln>
        </p:spPr>
      </p:pic>
      <p:pic>
        <p:nvPicPr>
          <p:cNvPr id="1997" name="Picture 3" descr=""/>
          <p:cNvPicPr/>
          <p:nvPr/>
        </p:nvPicPr>
        <p:blipFill>
          <a:blip r:embed="rId2"/>
          <a:stretch/>
        </p:blipFill>
        <p:spPr>
          <a:xfrm>
            <a:off x="-22320" y="1314360"/>
            <a:ext cx="2779920" cy="3291120"/>
          </a:xfrm>
          <a:prstGeom prst="rect">
            <a:avLst/>
          </a:prstGeom>
          <a:ln w="0">
            <a:noFill/>
          </a:ln>
        </p:spPr>
      </p:pic>
      <p:sp>
        <p:nvSpPr>
          <p:cNvPr id="1998" name="TextBox 5"/>
          <p:cNvSpPr/>
          <p:nvPr/>
        </p:nvSpPr>
        <p:spPr>
          <a:xfrm>
            <a:off x="376920" y="6599160"/>
            <a:ext cx="401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ource: HarvestChoice/IFPRI  Prototype SIMLESA simulations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&amp;E Implementation to 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456840" y="16765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rget area stratification and sit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ablishing core FtF M&amp;E oblig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cruiting an M&amp;E Coordin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ilding an M&amp;E implementation communit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specially with national and local partn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igning an open-access, web-based M&amp;E data and analysis plat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nning annual M&amp;E technical m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Rectangle 2"/>
          <p:cNvSpPr/>
          <p:nvPr/>
        </p:nvSpPr>
        <p:spPr>
          <a:xfrm>
            <a:off x="6858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Straight Connector 26"/>
          <p:cNvSpPr/>
          <p:nvPr/>
        </p:nvSpPr>
        <p:spPr>
          <a:xfrm>
            <a:off x="444600" y="4968720"/>
            <a:ext cx="8020080" cy="180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Box 35"/>
          <p:cNvSpPr/>
          <p:nvPr/>
        </p:nvSpPr>
        <p:spPr>
          <a:xfrm>
            <a:off x="305748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3-9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Straight Connector 29"/>
          <p:cNvSpPr/>
          <p:nvPr/>
        </p:nvSpPr>
        <p:spPr>
          <a:xfrm flipH="1">
            <a:off x="3564000" y="4981680"/>
            <a:ext cx="1440" cy="30456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TextBox 40"/>
          <p:cNvSpPr/>
          <p:nvPr/>
        </p:nvSpPr>
        <p:spPr>
          <a:xfrm>
            <a:off x="5770440" y="5589720"/>
            <a:ext cx="10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-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Straight Connector 31"/>
          <p:cNvSpPr/>
          <p:nvPr/>
        </p:nvSpPr>
        <p:spPr>
          <a:xfrm>
            <a:off x="6281640" y="4948200"/>
            <a:ext cx="0" cy="35712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TextBox 40"/>
          <p:cNvSpPr/>
          <p:nvPr/>
        </p:nvSpPr>
        <p:spPr>
          <a:xfrm>
            <a:off x="214200" y="43668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West Africa: Year 1 M&amp;E Tim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Box 40"/>
          <p:cNvSpPr/>
          <p:nvPr/>
        </p:nvSpPr>
        <p:spPr>
          <a:xfrm>
            <a:off x="534960" y="4948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Zapf Dingbats"/>
                <a:ea typeface="MS PGothic"/>
              </a:rPr>
              <a:t>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TextBox 35"/>
          <p:cNvSpPr/>
          <p:nvPr/>
        </p:nvSpPr>
        <p:spPr>
          <a:xfrm>
            <a:off x="44460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-3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Box 4"/>
          <p:cNvSpPr/>
          <p:nvPr/>
        </p:nvSpPr>
        <p:spPr>
          <a:xfrm>
            <a:off x="303120" y="1620720"/>
            <a:ext cx="229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Area Characteriz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extBox 1"/>
          <p:cNvSpPr/>
          <p:nvPr/>
        </p:nvSpPr>
        <p:spPr>
          <a:xfrm>
            <a:off x="2864520" y="142236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2" name="Straight Arrow Connector 3"/>
          <p:cNvCxnSpPr/>
          <p:nvPr/>
        </p:nvCxnSpPr>
        <p:spPr>
          <a:xfrm>
            <a:off x="419040" y="2566800"/>
            <a:ext cx="87552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13" name="TextBox 4"/>
          <p:cNvSpPr/>
          <p:nvPr/>
        </p:nvSpPr>
        <p:spPr>
          <a:xfrm>
            <a:off x="712800" y="2697120"/>
            <a:ext cx="34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Activities-&gt; M&amp;E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TextBox 5"/>
          <p:cNvSpPr/>
          <p:nvPr/>
        </p:nvSpPr>
        <p:spPr>
          <a:xfrm>
            <a:off x="1944720" y="31701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extBox 6"/>
          <p:cNvSpPr/>
          <p:nvPr/>
        </p:nvSpPr>
        <p:spPr>
          <a:xfrm>
            <a:off x="4915800" y="371016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 Surv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TextBox 7"/>
          <p:cNvSpPr/>
          <p:nvPr/>
        </p:nvSpPr>
        <p:spPr>
          <a:xfrm>
            <a:off x="4327560" y="2197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7" name="Straight Arrow Connector 25"/>
          <p:cNvCxnSpPr/>
          <p:nvPr/>
        </p:nvCxnSpPr>
        <p:spPr>
          <a:xfrm>
            <a:off x="1293480" y="3087360"/>
            <a:ext cx="17643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18" name="Straight Arrow Connector 28"/>
          <p:cNvCxnSpPr/>
          <p:nvPr/>
        </p:nvCxnSpPr>
        <p:spPr>
          <a:xfrm>
            <a:off x="2000160" y="3565080"/>
            <a:ext cx="17661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19" name="Straight Arrow Connector 30"/>
          <p:cNvCxnSpPr/>
          <p:nvPr/>
        </p:nvCxnSpPr>
        <p:spPr>
          <a:xfrm>
            <a:off x="4549680" y="4071600"/>
            <a:ext cx="271872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20" name="Straight Arrow Connector 32"/>
          <p:cNvCxnSpPr/>
          <p:nvPr/>
        </p:nvCxnSpPr>
        <p:spPr>
          <a:xfrm>
            <a:off x="2527200" y="2082600"/>
            <a:ext cx="199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21" name="Straight Arrow Connector 34"/>
          <p:cNvCxnSpPr/>
          <p:nvPr/>
        </p:nvCxnSpPr>
        <p:spPr>
          <a:xfrm>
            <a:off x="4197240" y="2569680"/>
            <a:ext cx="199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22" name="TextBox 1"/>
          <p:cNvSpPr/>
          <p:nvPr/>
        </p:nvSpPr>
        <p:spPr>
          <a:xfrm>
            <a:off x="927000" y="428796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Impact Evaluation: Scaling Out &amp;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3" name="Straight Arrow Connector 23"/>
          <p:cNvCxnSpPr/>
          <p:nvPr/>
        </p:nvCxnSpPr>
        <p:spPr>
          <a:xfrm>
            <a:off x="1187280" y="4723920"/>
            <a:ext cx="487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024" name="Picture 2" descr=""/>
          <p:cNvPicPr/>
          <p:nvPr/>
        </p:nvPicPr>
        <p:blipFill>
          <a:blip r:embed="rId1"/>
          <a:stretch/>
        </p:blipFill>
        <p:spPr>
          <a:xfrm>
            <a:off x="4229280" y="2841480"/>
            <a:ext cx="448920" cy="657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25" name="TextBox 1"/>
          <p:cNvSpPr/>
          <p:nvPr/>
        </p:nvSpPr>
        <p:spPr>
          <a:xfrm>
            <a:off x="4696560" y="2884320"/>
            <a:ext cx="108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&amp;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/Station (&amp; R&amp;D) Inven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228600" y="16765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tion Location     (if known, Lat:___ Long: ___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tion Name: _________________________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rict: _____________   Region: ___________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te/Station Full Name: 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itution: ___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ologies/Practices tested/demonstr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act detai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Rectangle 3"/>
          <p:cNvSpPr/>
          <p:nvPr/>
        </p:nvSpPr>
        <p:spPr>
          <a:xfrm>
            <a:off x="714240" y="4497480"/>
            <a:ext cx="7315200" cy="99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appropriate split of M&amp;E roles between the M &amp; the E? (e.g., strong interest in early assessments of outcomes and spillover potent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likely cost of meeting donor’s minimum reporting need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o ensure CAADP alignment (e.g. components selected on basis of elicited demand or available supply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Site Implementation VS Program wide M&amp;E needs/rol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IITA-lead Tanzania “M&amp;E” plans VS IFPRI-lead SSA M&amp;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How will “Tanzania efforts” efforts be coordinated? Who should program M&amp;E be in dialog wit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ing shared roles in data and tool development, access and application across program partners and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obtaining appropriate cross-fertilization in site selection, field data collection, annual reporting/analysi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nterest in engaging actively in a program M&amp;E community (especially from national partners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 are likely candidates for M&amp;E Coordinator posi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0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ADP-CGIAR Program Alignment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chnical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3" name="Picture 2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5345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&amp;E Guiding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30456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tF Complianc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Conform to the FtF core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ulti-scale, Multi-site reporting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eet broad stakeholder needs and support multi-scale/multi-site M&amp;E throug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-site, sub-system and system repor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untry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reakout of site reports to serve national stakeholder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gional Site-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or each of the three regional SI program si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SA-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ross-system reporting and SI-wide “roll-up” of indicators across: Sudano-Sahelian zone, Ethiopian Highlands, Eastern and Southern Af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nitoring &amp; projection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rovide monitoring reports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hort-term projections (targets) of key M&amp;E indicators for intervention sites in project “Zone of Influence”, updated annu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caling indicators up and out (spatial &amp; temporal)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a range of biophysical, bio-economic , market and welfare models for ex ante analysis of output, outcome, and impact indicato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eyword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xtrapolation, aggregation, tradeoffs, spillover potential, sustainability, welfare and environmental go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access data and analysis platfor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intain a transparent, open-access M&amp;E data management and analysis platform to serve the needs of SI stakehol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ey Activities for M&amp;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"/>
          <p:cNvSpPr txBox="1"/>
          <p:nvPr/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ocktaking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ntory (and mapping) of partner sites and SI component innovations. Characterization of sites &amp; inno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atification and diagnosis of target systems/geographie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ghlight key differences in initial conditions, drivers of change, and SI-related constraints or opportun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ntification of potential site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at are representative of the identified stratification and cost-effective for implement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p proposed activities and outcomes into M&amp;E indica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sign &amp; conduct baseline and periodic survey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ing secondary data sources where possible (e.g. NSO/MoA, DHS, LSMS, CRP survey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intaining an Innovation Inventory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able discovery and delivery of innovation options project-wid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stablish a Linked Model/Evaluation capacity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support M&amp;E reporting cycl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 outcome and impact indicators (e.g., up/out-scaling and projections with and w/o SI interventions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mpact/Attribution assessment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the standards required  (ex post stud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8" name="Group 105"/>
          <p:cNvGrpSpPr/>
          <p:nvPr/>
        </p:nvGrpSpPr>
        <p:grpSpPr>
          <a:xfrm>
            <a:off x="3857760" y="1054080"/>
            <a:ext cx="2322360" cy="5410080"/>
            <a:chOff x="3857760" y="1054080"/>
            <a:chExt cx="2322360" cy="5410080"/>
          </a:xfrm>
        </p:grpSpPr>
        <p:grpSp>
          <p:nvGrpSpPr>
            <p:cNvPr id="1739" name="Group 102"/>
            <p:cNvGrpSpPr/>
            <p:nvPr/>
          </p:nvGrpSpPr>
          <p:grpSpPr>
            <a:xfrm>
              <a:off x="4214880" y="1054080"/>
              <a:ext cx="1965240" cy="5410080"/>
              <a:chOff x="4214880" y="1054080"/>
              <a:chExt cx="1965240" cy="5410080"/>
            </a:xfrm>
          </p:grpSpPr>
          <p:sp>
            <p:nvSpPr>
              <p:cNvPr id="1740" name="Rectangle 60"/>
              <p:cNvSpPr/>
              <p:nvPr/>
            </p:nvSpPr>
            <p:spPr>
              <a:xfrm>
                <a:off x="4214880" y="1054080"/>
                <a:ext cx="1965240" cy="541008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OUTCOM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Rectangle 20"/>
              <p:cNvSpPr/>
              <p:nvPr/>
            </p:nvSpPr>
            <p:spPr>
              <a:xfrm>
                <a:off x="4265640" y="1411200"/>
                <a:ext cx="1836720" cy="74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More efficient, productive, &amp; resilient production syste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Right Arrow 104"/>
            <p:cNvSpPr/>
            <p:nvPr/>
          </p:nvSpPr>
          <p:spPr>
            <a:xfrm>
              <a:off x="3857760" y="3843360"/>
              <a:ext cx="369720" cy="344160"/>
            </a:xfrm>
            <a:prstGeom prst="rightArrow">
              <a:avLst>
                <a:gd name="adj1" fmla="val 50000"/>
                <a:gd name="adj2" fmla="val 50043"/>
              </a:avLst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3" name="Rectangle 9"/>
          <p:cNvSpPr/>
          <p:nvPr/>
        </p:nvSpPr>
        <p:spPr>
          <a:xfrm>
            <a:off x="1693800" y="1066680"/>
            <a:ext cx="2151000" cy="5410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Rectangle 10"/>
          <p:cNvSpPr/>
          <p:nvPr/>
        </p:nvSpPr>
        <p:spPr>
          <a:xfrm>
            <a:off x="1746360" y="1400040"/>
            <a:ext cx="2074680" cy="4827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Available /Adap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Innovation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11"/>
          <p:cNvSpPr/>
          <p:nvPr/>
        </p:nvSpPr>
        <p:spPr>
          <a:xfrm>
            <a:off x="1746360" y="4218120"/>
            <a:ext cx="2074680" cy="5270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Willing, capable, relevant partners/users enga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Rectangle 12"/>
          <p:cNvSpPr/>
          <p:nvPr/>
        </p:nvSpPr>
        <p:spPr>
          <a:xfrm>
            <a:off x="1746360" y="1952640"/>
            <a:ext cx="2074680" cy="7300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Significant SI gains from  systems-focused component 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14"/>
          <p:cNvSpPr/>
          <p:nvPr/>
        </p:nvSpPr>
        <p:spPr>
          <a:xfrm>
            <a:off x="1746360" y="4795920"/>
            <a:ext cx="2074680" cy="4651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Quick wins/lessons are feasible, focus long-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Rectangle 15"/>
          <p:cNvSpPr/>
          <p:nvPr/>
        </p:nvSpPr>
        <p:spPr>
          <a:xfrm>
            <a:off x="1746360" y="2712960"/>
            <a:ext cx="2074680" cy="6811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Innovative &amp; tractable  implementation models can be appl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9" name="Group 59"/>
          <p:cNvGrpSpPr/>
          <p:nvPr/>
        </p:nvGrpSpPr>
        <p:grpSpPr>
          <a:xfrm>
            <a:off x="152280" y="1066680"/>
            <a:ext cx="1524240" cy="5410440"/>
            <a:chOff x="152280" y="1066680"/>
            <a:chExt cx="1524240" cy="5410440"/>
          </a:xfrm>
        </p:grpSpPr>
        <p:sp>
          <p:nvSpPr>
            <p:cNvPr id="1750" name="Rectangle 13"/>
            <p:cNvSpPr/>
            <p:nvPr/>
          </p:nvSpPr>
          <p:spPr>
            <a:xfrm>
              <a:off x="152280" y="1066680"/>
              <a:ext cx="990720" cy="54104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Calibri"/>
                </a:rPr>
                <a:t>CAA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3"/>
            <p:cNvSpPr/>
            <p:nvPr/>
          </p:nvSpPr>
          <p:spPr>
            <a:xfrm>
              <a:off x="279000" y="1828440"/>
              <a:ext cx="152280" cy="373392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4"/>
            <p:cNvSpPr/>
            <p:nvPr/>
          </p:nvSpPr>
          <p:spPr>
            <a:xfrm>
              <a:off x="523800" y="182844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5"/>
            <p:cNvSpPr/>
            <p:nvPr/>
          </p:nvSpPr>
          <p:spPr>
            <a:xfrm>
              <a:off x="523800" y="279396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6"/>
            <p:cNvSpPr/>
            <p:nvPr/>
          </p:nvSpPr>
          <p:spPr>
            <a:xfrm>
              <a:off x="523800" y="375912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7"/>
            <p:cNvSpPr/>
            <p:nvPr/>
          </p:nvSpPr>
          <p:spPr>
            <a:xfrm>
              <a:off x="523800" y="471492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Left-Right Arrow 16"/>
            <p:cNvSpPr/>
            <p:nvPr/>
          </p:nvSpPr>
          <p:spPr>
            <a:xfrm>
              <a:off x="1155960" y="3794040"/>
              <a:ext cx="520560" cy="328320"/>
            </a:xfrm>
            <a:prstGeom prst="leftRightArrow">
              <a:avLst>
                <a:gd name="adj1" fmla="val 50000"/>
                <a:gd name="adj2" fmla="val 50032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IGN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7" name="Rectangle 17"/>
          <p:cNvSpPr/>
          <p:nvPr/>
        </p:nvSpPr>
        <p:spPr>
          <a:xfrm>
            <a:off x="1746360" y="3441600"/>
            <a:ext cx="2074680" cy="7239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Delivery mechanisms  integral to project design and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Rectangle 18"/>
          <p:cNvSpPr/>
          <p:nvPr/>
        </p:nvSpPr>
        <p:spPr>
          <a:xfrm>
            <a:off x="1733400" y="5318280"/>
            <a:ext cx="2075040" cy="6537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Scaling up/out and maximising spillovers are part of project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19"/>
          <p:cNvSpPr/>
          <p:nvPr/>
        </p:nvSpPr>
        <p:spPr>
          <a:xfrm>
            <a:off x="4265640" y="2211480"/>
            <a:ext cx="181764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More effective use of land, water, biod’vrsty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21"/>
          <p:cNvSpPr/>
          <p:nvPr/>
        </p:nvSpPr>
        <p:spPr>
          <a:xfrm>
            <a:off x="4265640" y="3084480"/>
            <a:ext cx="1835280" cy="72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Greater, more equitable returns  to hh labour and as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22"/>
          <p:cNvSpPr/>
          <p:nvPr/>
        </p:nvSpPr>
        <p:spPr>
          <a:xfrm>
            <a:off x="4265640" y="3843360"/>
            <a:ext cx="1835280" cy="53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Improved household nutrition (esp W&amp;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Rectangle 24"/>
          <p:cNvSpPr/>
          <p:nvPr/>
        </p:nvSpPr>
        <p:spPr>
          <a:xfrm>
            <a:off x="4265640" y="4411800"/>
            <a:ext cx="182232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Better served and more efficient value ch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Box 25"/>
          <p:cNvSpPr/>
          <p:nvPr/>
        </p:nvSpPr>
        <p:spPr>
          <a:xfrm>
            <a:off x="201960" y="228600"/>
            <a:ext cx="87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Assumptions, Outcomes, Impacts, &amp; FtF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49"/>
          <p:cNvSpPr/>
          <p:nvPr/>
        </p:nvSpPr>
        <p:spPr>
          <a:xfrm>
            <a:off x="4287960" y="5667480"/>
            <a:ext cx="1819080" cy="749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Improved  research methods,  partnership and delivery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58"/>
          <p:cNvSpPr/>
          <p:nvPr/>
        </p:nvSpPr>
        <p:spPr>
          <a:xfrm>
            <a:off x="1731960" y="6019920"/>
            <a:ext cx="2075040" cy="4143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M&amp;</a:t>
            </a: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E</a:t>
            </a: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6" name="Group 103"/>
          <p:cNvGrpSpPr/>
          <p:nvPr/>
        </p:nvGrpSpPr>
        <p:grpSpPr>
          <a:xfrm>
            <a:off x="6162480" y="1400040"/>
            <a:ext cx="2946600" cy="4435560"/>
            <a:chOff x="6162480" y="1400040"/>
            <a:chExt cx="2946600" cy="4435560"/>
          </a:xfrm>
        </p:grpSpPr>
        <p:cxnSp>
          <p:nvCxnSpPr>
            <p:cNvPr id="1767" name="Straight Arrow Connector 106"/>
            <p:cNvCxnSpPr>
              <a:stCxn id="1768" idx="3"/>
              <a:endCxn id="1769" idx="1"/>
            </p:cNvCxnSpPr>
            <p:nvPr/>
          </p:nvCxnSpPr>
          <p:spPr>
            <a:xfrm>
              <a:off x="6798960" y="2806560"/>
              <a:ext cx="276840" cy="15912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70" name="Straight Arrow Connector 84"/>
            <p:cNvCxnSpPr>
              <a:stCxn id="1768" idx="3"/>
              <a:endCxn id="1771" idx="1"/>
            </p:cNvCxnSpPr>
            <p:nvPr/>
          </p:nvCxnSpPr>
          <p:spPr>
            <a:xfrm flipH="1">
              <a:off x="6582600" y="2806200"/>
              <a:ext cx="216360" cy="22834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72" name="Oval 64"/>
            <p:cNvSpPr/>
            <p:nvPr/>
          </p:nvSpPr>
          <p:spPr>
            <a:xfrm>
              <a:off x="6238800" y="3052440"/>
              <a:ext cx="1371600" cy="56520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Wom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mpowe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Oval 26"/>
            <p:cNvSpPr/>
            <p:nvPr/>
          </p:nvSpPr>
          <p:spPr>
            <a:xfrm>
              <a:off x="6942240" y="4336920"/>
              <a:ext cx="91908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Oval 27"/>
            <p:cNvSpPr/>
            <p:nvPr/>
          </p:nvSpPr>
          <p:spPr>
            <a:xfrm>
              <a:off x="7807320" y="3035160"/>
              <a:ext cx="103176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Oval 28"/>
            <p:cNvSpPr/>
            <p:nvPr/>
          </p:nvSpPr>
          <p:spPr>
            <a:xfrm>
              <a:off x="7067520" y="3585960"/>
              <a:ext cx="110952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Inc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Oval 29"/>
            <p:cNvSpPr/>
            <p:nvPr/>
          </p:nvSpPr>
          <p:spPr>
            <a:xfrm>
              <a:off x="8016840" y="3894120"/>
              <a:ext cx="109224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Hunger/Nutr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6" name="Straight Arrow Connector 41"/>
            <p:cNvCxnSpPr>
              <a:stCxn id="1774" idx="0"/>
              <a:endCxn id="1773" idx="2"/>
            </p:cNvCxnSpPr>
            <p:nvPr/>
          </p:nvCxnSpPr>
          <p:spPr>
            <a:xfrm flipV="1">
              <a:off x="7623000" y="3244320"/>
              <a:ext cx="184680" cy="34200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777" name="Straight Arrow Connector 42"/>
            <p:cNvCxnSpPr>
              <a:stCxn id="1769" idx="6"/>
              <a:endCxn id="1775" idx="3"/>
            </p:cNvCxnSpPr>
            <p:nvPr/>
          </p:nvCxnSpPr>
          <p:spPr>
            <a:xfrm flipV="1">
              <a:off x="7860960" y="4252320"/>
              <a:ext cx="316440" cy="29412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778" name="Straight Arrow Connector 44"/>
            <p:cNvCxnSpPr>
              <a:endCxn id="1775" idx="0"/>
            </p:cNvCxnSpPr>
            <p:nvPr/>
          </p:nvCxnSpPr>
          <p:spPr>
            <a:xfrm>
              <a:off x="8516880" y="3429000"/>
              <a:ext cx="46440" cy="4658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79" name="Straight Arrow Connector 47"/>
            <p:cNvCxnSpPr>
              <a:endCxn id="1774" idx="4"/>
            </p:cNvCxnSpPr>
            <p:nvPr/>
          </p:nvCxnSpPr>
          <p:spPr>
            <a:xfrm flipV="1">
              <a:off x="7311960" y="4005000"/>
              <a:ext cx="311760" cy="40392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80" name="Oval 50"/>
            <p:cNvSpPr/>
            <p:nvPr/>
          </p:nvSpPr>
          <p:spPr>
            <a:xfrm>
              <a:off x="7427880" y="1400040"/>
              <a:ext cx="1611360" cy="7938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table/Re-generating 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1" name="Straight Arrow Connector 51"/>
            <p:cNvCxnSpPr>
              <a:stCxn id="1780" idx="4"/>
              <a:endCxn id="1773" idx="0"/>
            </p:cNvCxnSpPr>
            <p:nvPr/>
          </p:nvCxnSpPr>
          <p:spPr>
            <a:xfrm>
              <a:off x="8232480" y="2193480"/>
              <a:ext cx="91080" cy="8420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82" name="Straight Arrow Connector 55"/>
            <p:cNvCxnSpPr>
              <a:endCxn id="1774" idx="0"/>
            </p:cNvCxnSpPr>
            <p:nvPr/>
          </p:nvCxnSpPr>
          <p:spPr>
            <a:xfrm>
              <a:off x="7542360" y="2666520"/>
              <a:ext cx="81360" cy="91980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83" name="Straight Arrow Connector 61"/>
            <p:cNvCxnSpPr>
              <a:endCxn id="1775" idx="2"/>
            </p:cNvCxnSpPr>
            <p:nvPr/>
          </p:nvCxnSpPr>
          <p:spPr>
            <a:xfrm>
              <a:off x="6183000" y="4098600"/>
              <a:ext cx="1834200" cy="54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4" name="Straight Arrow Connector 62"/>
            <p:cNvCxnSpPr>
              <a:endCxn id="1780" idx="2"/>
            </p:cNvCxnSpPr>
            <p:nvPr/>
          </p:nvCxnSpPr>
          <p:spPr>
            <a:xfrm flipV="1">
              <a:off x="6183000" y="1796040"/>
              <a:ext cx="1245240" cy="71172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5" name="Straight Arrow Connector 63"/>
            <p:cNvCxnSpPr>
              <a:endCxn id="1769" idx="2"/>
            </p:cNvCxnSpPr>
            <p:nvPr/>
          </p:nvCxnSpPr>
          <p:spPr>
            <a:xfrm flipV="1">
              <a:off x="6183000" y="4546080"/>
              <a:ext cx="759240" cy="1224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6" name="Straight Arrow Connector 68"/>
            <p:cNvCxnSpPr/>
            <p:nvPr/>
          </p:nvCxnSpPr>
          <p:spPr>
            <a:xfrm flipV="1">
              <a:off x="6179760" y="1641240"/>
              <a:ext cx="1362600" cy="1558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7" name="Straight Arrow Connector 70"/>
            <p:cNvCxnSpPr>
              <a:endCxn id="1774" idx="2"/>
            </p:cNvCxnSpPr>
            <p:nvPr/>
          </p:nvCxnSpPr>
          <p:spPr>
            <a:xfrm>
              <a:off x="6162480" y="3524040"/>
              <a:ext cx="905400" cy="2721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71" name="Oval 72"/>
            <p:cNvSpPr/>
            <p:nvPr/>
          </p:nvSpPr>
          <p:spPr>
            <a:xfrm>
              <a:off x="6343560" y="4962600"/>
              <a:ext cx="1638360" cy="87300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creased  value-added, jobs &amp; tr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73"/>
            <p:cNvSpPr/>
            <p:nvPr/>
          </p:nvSpPr>
          <p:spPr>
            <a:xfrm>
              <a:off x="6594480" y="2128680"/>
              <a:ext cx="1395360" cy="7938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creased food, feed, fod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8" name="Straight Arrow Connector 76"/>
            <p:cNvCxnSpPr>
              <a:endCxn id="1768" idx="1"/>
            </p:cNvCxnSpPr>
            <p:nvPr/>
          </p:nvCxnSpPr>
          <p:spPr>
            <a:xfrm>
              <a:off x="6183000" y="1796760"/>
              <a:ext cx="616680" cy="4500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9" name="Straight Arrow Connector 81"/>
            <p:cNvCxnSpPr>
              <a:endCxn id="1771" idx="1"/>
            </p:cNvCxnSpPr>
            <p:nvPr/>
          </p:nvCxnSpPr>
          <p:spPr>
            <a:xfrm>
              <a:off x="6180120" y="4716360"/>
              <a:ext cx="403920" cy="3736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90" name="Straight Arrow Connector 88"/>
            <p:cNvCxnSpPr>
              <a:endCxn id="1769" idx="4"/>
            </p:cNvCxnSpPr>
            <p:nvPr/>
          </p:nvCxnSpPr>
          <p:spPr>
            <a:xfrm flipV="1">
              <a:off x="7171920" y="4755600"/>
              <a:ext cx="229320" cy="24012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791" name="Oval 53"/>
            <p:cNvSpPr/>
            <p:nvPr/>
          </p:nvSpPr>
          <p:spPr>
            <a:xfrm>
              <a:off x="7953480" y="4594320"/>
              <a:ext cx="100944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ector 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92" name="Straight Arrow Connector 54"/>
            <p:cNvCxnSpPr>
              <a:stCxn id="1774" idx="4"/>
              <a:endCxn id="1791" idx="1"/>
            </p:cNvCxnSpPr>
            <p:nvPr/>
          </p:nvCxnSpPr>
          <p:spPr>
            <a:xfrm>
              <a:off x="7623000" y="4005360"/>
              <a:ext cx="478440" cy="6516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93" name="Straight Arrow Connector 57"/>
            <p:cNvCxnSpPr>
              <a:stCxn id="1771" idx="7"/>
              <a:endCxn id="1791" idx="3"/>
            </p:cNvCxnSpPr>
            <p:nvPr/>
          </p:nvCxnSpPr>
          <p:spPr>
            <a:xfrm flipV="1">
              <a:off x="7742160" y="4952160"/>
              <a:ext cx="358920" cy="137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794" name="Group 36"/>
          <p:cNvGrpSpPr/>
          <p:nvPr/>
        </p:nvGrpSpPr>
        <p:grpSpPr>
          <a:xfrm>
            <a:off x="6246720" y="2768760"/>
            <a:ext cx="2835360" cy="2408040"/>
            <a:chOff x="6246720" y="2768760"/>
            <a:chExt cx="2835360" cy="2408040"/>
          </a:xfrm>
        </p:grpSpPr>
        <p:sp>
          <p:nvSpPr>
            <p:cNvPr id="1795" name="Flowchart: Connector 67"/>
            <p:cNvSpPr/>
            <p:nvPr/>
          </p:nvSpPr>
          <p:spPr>
            <a:xfrm>
              <a:off x="8713800" y="36021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lowchart: Connector 69"/>
            <p:cNvSpPr/>
            <p:nvPr/>
          </p:nvSpPr>
          <p:spPr>
            <a:xfrm>
              <a:off x="8470800" y="27687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lowchart: Connector 71"/>
            <p:cNvSpPr/>
            <p:nvPr/>
          </p:nvSpPr>
          <p:spPr>
            <a:xfrm>
              <a:off x="8670960" y="479592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lowchart: Connector 74"/>
            <p:cNvSpPr/>
            <p:nvPr/>
          </p:nvSpPr>
          <p:spPr>
            <a:xfrm>
              <a:off x="7507080" y="33354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lowchart: Connector 75"/>
            <p:cNvSpPr/>
            <p:nvPr/>
          </p:nvSpPr>
          <p:spPr>
            <a:xfrm>
              <a:off x="6246720" y="292248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0" name="Rectangle 87"/>
          <p:cNvSpPr/>
          <p:nvPr/>
        </p:nvSpPr>
        <p:spPr>
          <a:xfrm>
            <a:off x="4275000" y="5029200"/>
            <a:ext cx="182268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Aware, engaged, empowered, farmers &amp; service provider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1" name="Group 37"/>
          <p:cNvGrpSpPr/>
          <p:nvPr/>
        </p:nvGrpSpPr>
        <p:grpSpPr>
          <a:xfrm>
            <a:off x="923760" y="1100160"/>
            <a:ext cx="7823520" cy="4735440"/>
            <a:chOff x="923760" y="1100160"/>
            <a:chExt cx="7823520" cy="4735440"/>
          </a:xfrm>
        </p:grpSpPr>
        <p:sp>
          <p:nvSpPr>
            <p:cNvPr id="1802" name="Flowchart: Connector 83"/>
            <p:cNvSpPr/>
            <p:nvPr/>
          </p:nvSpPr>
          <p:spPr>
            <a:xfrm>
              <a:off x="5794560" y="12906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lowchart: Connector 85"/>
            <p:cNvSpPr/>
            <p:nvPr/>
          </p:nvSpPr>
          <p:spPr>
            <a:xfrm>
              <a:off x="8379000" y="11001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lowchart: Connector 86"/>
            <p:cNvSpPr/>
            <p:nvPr/>
          </p:nvSpPr>
          <p:spPr>
            <a:xfrm>
              <a:off x="7680600" y="545472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lowchart: Connector 89"/>
            <p:cNvSpPr/>
            <p:nvPr/>
          </p:nvSpPr>
          <p:spPr>
            <a:xfrm>
              <a:off x="5880240" y="5031000"/>
              <a:ext cx="3664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lowchart: Connector 90"/>
            <p:cNvSpPr/>
            <p:nvPr/>
          </p:nvSpPr>
          <p:spPr>
            <a:xfrm>
              <a:off x="5699160" y="3085920"/>
              <a:ext cx="3664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lowchart: Connector 91"/>
            <p:cNvSpPr/>
            <p:nvPr/>
          </p:nvSpPr>
          <p:spPr>
            <a:xfrm>
              <a:off x="923760" y="50436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TextBox 4"/>
          <p:cNvSpPr/>
          <p:nvPr/>
        </p:nvSpPr>
        <p:spPr>
          <a:xfrm>
            <a:off x="762120" y="13939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sighting activity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keholder vision of 15-20 year outcomes for target systems and ge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ographic (problem/intervention domain) stratification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ing problem domains that reflect key differences in initial conditions (status and trends) and drivers of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Box 5"/>
          <p:cNvSpPr/>
          <p:nvPr/>
        </p:nvSpPr>
        <p:spPr>
          <a:xfrm>
            <a:off x="758880" y="685800"/>
            <a:ext cx="79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tential Stratification and Experimental Design Framework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Box 6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-81360" y="95040"/>
            <a:ext cx="924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ographic Stratification of Target Systems/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2" name="Picture 5" descr=""/>
          <p:cNvPicPr/>
          <p:nvPr/>
        </p:nvPicPr>
        <p:blipFill>
          <a:blip r:embed="rId1"/>
          <a:stretch/>
        </p:blipFill>
        <p:spPr>
          <a:xfrm>
            <a:off x="160200" y="925560"/>
            <a:ext cx="8839440" cy="5718240"/>
          </a:xfrm>
          <a:prstGeom prst="rect">
            <a:avLst/>
          </a:prstGeom>
          <a:ln w="0">
            <a:noFill/>
          </a:ln>
        </p:spPr>
      </p:pic>
      <p:sp>
        <p:nvSpPr>
          <p:cNvPr id="1813" name="TextBox 2"/>
          <p:cNvSpPr/>
          <p:nvPr/>
        </p:nvSpPr>
        <p:spPr>
          <a:xfrm>
            <a:off x="369360" y="6489720"/>
            <a:ext cx="44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Site Selection Group. Addis SI Workshop, Feb 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TextBox 4"/>
          <p:cNvSpPr/>
          <p:nvPr/>
        </p:nvSpPr>
        <p:spPr>
          <a:xfrm>
            <a:off x="762120" y="1263600"/>
            <a:ext cx="76197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esighting activity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keholder vision of 15-20 year outcomes for target systems and geograph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graphic (problem/intervention domain) stratification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ing problem domains that reflect key differences in initial conditions (status and trends) and drivers of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te-specific (farm/landscape) stratific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Sustainability and Intensification stratification within each geographic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ticulate &amp; test potential SI trajector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in geographic and site-specific st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TextBox 5"/>
          <p:cNvSpPr/>
          <p:nvPr/>
        </p:nvSpPr>
        <p:spPr>
          <a:xfrm>
            <a:off x="758880" y="685800"/>
            <a:ext cx="79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tential Stratification and Experimental Design Framework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Box 6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7" name="Group 58"/>
          <p:cNvGrpSpPr/>
          <p:nvPr/>
        </p:nvGrpSpPr>
        <p:grpSpPr>
          <a:xfrm>
            <a:off x="2629080" y="2057400"/>
            <a:ext cx="3085920" cy="2819520"/>
            <a:chOff x="2629080" y="2057400"/>
            <a:chExt cx="3085920" cy="2819520"/>
          </a:xfrm>
        </p:grpSpPr>
        <p:sp>
          <p:nvSpPr>
            <p:cNvPr id="1818" name="Rectangle 57"/>
            <p:cNvSpPr/>
            <p:nvPr/>
          </p:nvSpPr>
          <p:spPr>
            <a:xfrm>
              <a:off x="2629080" y="2095200"/>
              <a:ext cx="1333440" cy="136368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Straight Connector 52"/>
            <p:cNvSpPr/>
            <p:nvPr/>
          </p:nvSpPr>
          <p:spPr>
            <a:xfrm flipV="1">
              <a:off x="4114800" y="2057400"/>
              <a:ext cx="1600200" cy="18720"/>
            </a:xfrm>
            <a:prstGeom prst="line">
              <a:avLst/>
            </a:prstGeom>
            <a:ln w="28440">
              <a:solidFill>
                <a:srgbClr val="fcd5b5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Straight Connector 55"/>
            <p:cNvSpPr/>
            <p:nvPr/>
          </p:nvSpPr>
          <p:spPr>
            <a:xfrm>
              <a:off x="4086360" y="3465720"/>
              <a:ext cx="1628640" cy="1411200"/>
            </a:xfrm>
            <a:prstGeom prst="line">
              <a:avLst/>
            </a:prstGeom>
            <a:ln w="28440">
              <a:solidFill>
                <a:srgbClr val="fcd5b5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ratification &amp; SI Traject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TextBox 20"/>
          <p:cNvSpPr/>
          <p:nvPr/>
        </p:nvSpPr>
        <p:spPr>
          <a:xfrm>
            <a:off x="-91800" y="3019320"/>
            <a:ext cx="14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ain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g.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3" name="Group 34"/>
          <p:cNvGrpSpPr/>
          <p:nvPr/>
        </p:nvGrpSpPr>
        <p:grpSpPr>
          <a:xfrm>
            <a:off x="1295280" y="2057400"/>
            <a:ext cx="2667240" cy="3614400"/>
            <a:chOff x="1295280" y="2057400"/>
            <a:chExt cx="2667240" cy="3614400"/>
          </a:xfrm>
        </p:grpSpPr>
        <p:grpSp>
          <p:nvGrpSpPr>
            <p:cNvPr id="1824" name="Group 9"/>
            <p:cNvGrpSpPr/>
            <p:nvPr/>
          </p:nvGrpSpPr>
          <p:grpSpPr>
            <a:xfrm>
              <a:off x="1295280" y="2057400"/>
              <a:ext cx="2667240" cy="2834280"/>
              <a:chOff x="1295280" y="2057400"/>
              <a:chExt cx="2667240" cy="2834280"/>
            </a:xfrm>
          </p:grpSpPr>
          <p:sp>
            <p:nvSpPr>
              <p:cNvPr id="1825" name="Straight Connector 4"/>
              <p:cNvSpPr/>
              <p:nvPr/>
            </p:nvSpPr>
            <p:spPr>
              <a:xfrm>
                <a:off x="1295280" y="2057400"/>
                <a:ext cx="0" cy="282024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Straight Connector 7"/>
              <p:cNvSpPr/>
              <p:nvPr/>
            </p:nvSpPr>
            <p:spPr>
              <a:xfrm>
                <a:off x="1295280" y="4891680"/>
                <a:ext cx="2667240" cy="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7" name="Straight Connector 11"/>
            <p:cNvSpPr/>
            <p:nvPr/>
          </p:nvSpPr>
          <p:spPr>
            <a:xfrm>
              <a:off x="1371240" y="2057400"/>
              <a:ext cx="2591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Straight Connector 13"/>
            <p:cNvSpPr/>
            <p:nvPr/>
          </p:nvSpPr>
          <p:spPr>
            <a:xfrm>
              <a:off x="3962520" y="2133360"/>
              <a:ext cx="0" cy="2743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Straight Connector 14"/>
            <p:cNvSpPr/>
            <p:nvPr/>
          </p:nvSpPr>
          <p:spPr>
            <a:xfrm>
              <a:off x="2629080" y="2095200"/>
              <a:ext cx="0" cy="2743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Straight Connector 15"/>
            <p:cNvSpPr/>
            <p:nvPr/>
          </p:nvSpPr>
          <p:spPr>
            <a:xfrm>
              <a:off x="1333080" y="3459240"/>
              <a:ext cx="2591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TextBox 16"/>
            <p:cNvSpPr/>
            <p:nvPr/>
          </p:nvSpPr>
          <p:spPr>
            <a:xfrm>
              <a:off x="2974680" y="2651400"/>
              <a:ext cx="6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i-H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TextBox 17"/>
            <p:cNvSpPr/>
            <p:nvPr/>
          </p:nvSpPr>
          <p:spPr>
            <a:xfrm>
              <a:off x="2972160" y="388620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o-H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TextBox 18"/>
            <p:cNvSpPr/>
            <p:nvPr/>
          </p:nvSpPr>
          <p:spPr>
            <a:xfrm>
              <a:off x="1602000" y="38862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o-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TextBox 19"/>
            <p:cNvSpPr/>
            <p:nvPr/>
          </p:nvSpPr>
          <p:spPr>
            <a:xfrm>
              <a:off x="1681560" y="265140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i-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TextBox 21"/>
            <p:cNvSpPr/>
            <p:nvPr/>
          </p:nvSpPr>
          <p:spPr>
            <a:xfrm>
              <a:off x="1920600" y="5029200"/>
              <a:ext cx="179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arket Potent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p. d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36" name="Straight Arrow Connector 50"/>
          <p:cNvCxnSpPr/>
          <p:nvPr/>
        </p:nvCxnSpPr>
        <p:spPr>
          <a:xfrm flipV="1">
            <a:off x="6884640" y="3079440"/>
            <a:ext cx="678600" cy="837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837" name="Group 71"/>
          <p:cNvGrpSpPr/>
          <p:nvPr/>
        </p:nvGrpSpPr>
        <p:grpSpPr>
          <a:xfrm>
            <a:off x="6805440" y="2831400"/>
            <a:ext cx="891000" cy="1588680"/>
            <a:chOff x="6805440" y="2831400"/>
            <a:chExt cx="891000" cy="1588680"/>
          </a:xfrm>
        </p:grpSpPr>
        <p:cxnSp>
          <p:nvCxnSpPr>
            <p:cNvPr id="1838" name="Straight Arrow Connector 59"/>
            <p:cNvCxnSpPr/>
            <p:nvPr/>
          </p:nvCxnSpPr>
          <p:spPr>
            <a:xfrm>
              <a:off x="6884640" y="4419360"/>
              <a:ext cx="81216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39" name="Elbow Connector 63"/>
            <p:cNvCxnSpPr/>
            <p:nvPr/>
          </p:nvCxnSpPr>
          <p:spPr>
            <a:xfrm flipH="1" flipV="1" rot="5400000">
              <a:off x="6714720" y="2922120"/>
              <a:ext cx="786600" cy="605520"/>
            </a:xfrm>
            <a:prstGeom prst="bentConnector3">
              <a:avLst>
                <a:gd name="adj1" fmla="val 99816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840" name="TextBox 72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TextBox 73"/>
          <p:cNvSpPr/>
          <p:nvPr/>
        </p:nvSpPr>
        <p:spPr>
          <a:xfrm>
            <a:off x="1316880" y="149220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Geographic Stra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2" name="Group 75"/>
          <p:cNvGrpSpPr/>
          <p:nvPr/>
        </p:nvGrpSpPr>
        <p:grpSpPr>
          <a:xfrm>
            <a:off x="4311720" y="1459080"/>
            <a:ext cx="4568040" cy="3957840"/>
            <a:chOff x="4311720" y="1459080"/>
            <a:chExt cx="4568040" cy="3957840"/>
          </a:xfrm>
        </p:grpSpPr>
        <p:grpSp>
          <p:nvGrpSpPr>
            <p:cNvPr id="1843" name="Group 35"/>
            <p:cNvGrpSpPr/>
            <p:nvPr/>
          </p:nvGrpSpPr>
          <p:grpSpPr>
            <a:xfrm>
              <a:off x="4311720" y="2076480"/>
              <a:ext cx="4245480" cy="3340440"/>
              <a:chOff x="4311720" y="2076480"/>
              <a:chExt cx="4245480" cy="3340440"/>
            </a:xfrm>
          </p:grpSpPr>
          <p:grpSp>
            <p:nvGrpSpPr>
              <p:cNvPr id="1844" name="Group 36"/>
              <p:cNvGrpSpPr/>
              <p:nvPr/>
            </p:nvGrpSpPr>
            <p:grpSpPr>
              <a:xfrm>
                <a:off x="5890320" y="2076480"/>
                <a:ext cx="2666880" cy="2834640"/>
                <a:chOff x="5890320" y="2076480"/>
                <a:chExt cx="2666880" cy="2834640"/>
              </a:xfrm>
            </p:grpSpPr>
            <p:sp>
              <p:nvSpPr>
                <p:cNvPr id="1845" name="Straight Connector 46"/>
                <p:cNvSpPr/>
                <p:nvPr/>
              </p:nvSpPr>
              <p:spPr>
                <a:xfrm>
                  <a:off x="5890320" y="2076480"/>
                  <a:ext cx="0" cy="2820600"/>
                </a:xfrm>
                <a:prstGeom prst="line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Straight Connector 47"/>
                <p:cNvSpPr/>
                <p:nvPr/>
              </p:nvSpPr>
              <p:spPr>
                <a:xfrm>
                  <a:off x="5890320" y="4911120"/>
                  <a:ext cx="2666880" cy="0"/>
                </a:xfrm>
                <a:prstGeom prst="line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7" name="Straight Connector 37"/>
              <p:cNvSpPr/>
              <p:nvPr/>
            </p:nvSpPr>
            <p:spPr>
              <a:xfrm>
                <a:off x="5965920" y="2076480"/>
                <a:ext cx="2590920" cy="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Straight Connector 38"/>
              <p:cNvSpPr/>
              <p:nvPr/>
            </p:nvSpPr>
            <p:spPr>
              <a:xfrm>
                <a:off x="8556840" y="2152440"/>
                <a:ext cx="0" cy="27432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Straight Connector 39"/>
              <p:cNvSpPr/>
              <p:nvPr/>
            </p:nvSpPr>
            <p:spPr>
              <a:xfrm>
                <a:off x="7223400" y="2114280"/>
                <a:ext cx="0" cy="27432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Straight Connector 40"/>
              <p:cNvSpPr/>
              <p:nvPr/>
            </p:nvSpPr>
            <p:spPr>
              <a:xfrm>
                <a:off x="5927760" y="3478320"/>
                <a:ext cx="2590920" cy="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TextBox 41"/>
              <p:cNvSpPr/>
              <p:nvPr/>
            </p:nvSpPr>
            <p:spPr>
              <a:xfrm>
                <a:off x="7569720" y="2670840"/>
                <a:ext cx="65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Hi-H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TextBox 42"/>
              <p:cNvSpPr/>
              <p:nvPr/>
            </p:nvSpPr>
            <p:spPr>
              <a:xfrm>
                <a:off x="7566840" y="3905640"/>
                <a:ext cx="67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o-H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TextBox 43"/>
              <p:cNvSpPr/>
              <p:nvPr/>
            </p:nvSpPr>
            <p:spPr>
              <a:xfrm>
                <a:off x="6197400" y="3905640"/>
                <a:ext cx="68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o-L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TextBox 44"/>
              <p:cNvSpPr/>
              <p:nvPr/>
            </p:nvSpPr>
            <p:spPr>
              <a:xfrm>
                <a:off x="6276240" y="2670840"/>
                <a:ext cx="67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Hi-L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TextBox 45"/>
              <p:cNvSpPr/>
              <p:nvPr/>
            </p:nvSpPr>
            <p:spPr>
              <a:xfrm>
                <a:off x="6222960" y="5048640"/>
                <a:ext cx="204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Sustainability Inde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TextBox 48"/>
              <p:cNvSpPr/>
              <p:nvPr/>
            </p:nvSpPr>
            <p:spPr>
              <a:xfrm>
                <a:off x="4311720" y="3050280"/>
                <a:ext cx="1543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Intensif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Inde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7" name="TextBox 74"/>
            <p:cNvSpPr/>
            <p:nvPr/>
          </p:nvSpPr>
          <p:spPr>
            <a:xfrm>
              <a:off x="5515560" y="1459080"/>
              <a:ext cx="336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Calibri"/>
                </a:rPr>
                <a:t>Farm/Landscape Stratif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22:17:45Z</dcterms:created>
  <dc:creator>locadmin</dc:creator>
  <dc:description/>
  <dc:language>en-US</dc:language>
  <cp:lastModifiedBy>PBallantyne</cp:lastModifiedBy>
  <dcterms:modified xsi:type="dcterms:W3CDTF">2012-02-07T07:04:27Z</dcterms:modified>
  <cp:revision>95</cp:revision>
  <dc:subject/>
  <dc:title>PowerPoint Presentation</dc:title>
</cp:coreProperties>
</file>